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4825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D2FD9-4DC2-41EE-B183-A45E74B22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2CD77-4EA6-4DD6-A9E0-C8980306D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FC4DF-ABE3-46B7-B865-035F04A2B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54EB8-5E77-4B7C-A0C6-F510A5E91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6EE12-01E5-4F8D-8A90-374DC5098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6A527-45B5-42DE-8CFB-DCF311EB7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704B6-9269-479F-82BE-369C670FA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DCC08-D681-4004-AB0A-991B1063D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7C752-4E08-4BB6-A93B-24EBB0AA6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0DF49-418F-4347-AF9D-6836AA541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F5D19-C1C5-4BF9-8B36-7C469FFE2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25D3F-D27B-454A-997E-E1F2DEBE6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96589-CB32-4923-A4A0-6E93690DD5F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3.wmf"/><Relationship Id="rId2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00200" y="2133720"/>
            <a:ext cx="2057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Mobile 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457200" y="1828800"/>
          <a:ext cx="235080" cy="103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828800"/>
                    <a:ext cx="235080" cy="103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1143000" y="1752480"/>
          <a:ext cx="738360" cy="1362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43000" y="1752480"/>
                    <a:ext cx="738360" cy="136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"/>
          <p:cNvGraphicFramePr/>
          <p:nvPr/>
        </p:nvGraphicFramePr>
        <p:xfrm>
          <a:off x="4876920" y="1295280"/>
          <a:ext cx="533160" cy="914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876920" y="1295280"/>
                    <a:ext cx="53316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"/>
          <p:cNvSpPr/>
          <p:nvPr/>
        </p:nvSpPr>
        <p:spPr>
          <a:xfrm>
            <a:off x="4191120" y="1447920"/>
            <a:ext cx="152280" cy="60948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735720" y="1447920"/>
            <a:ext cx="52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>
                <a:solidFill>
                  <a:srgbClr val="000000"/>
                </a:solidFill>
                <a:latin typeface="Times New Roman"/>
              </a:rPr>
              <a:t>N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09680" y="3505320"/>
            <a:ext cx="152640" cy="60948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6553080" y="1371600"/>
          <a:ext cx="228600" cy="533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553080" y="1371600"/>
                    <a:ext cx="22860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4343400" y="16002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16765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133360" y="411480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505320" y="1980720"/>
            <a:ext cx="68580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04920" y="76320"/>
            <a:ext cx="4267080" cy="22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Times New Roman"/>
              </a:rPr>
              <a:t>Appendix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Times New Roman"/>
              </a:rPr>
              <a:t>WAP architectures </a:t>
            </a:r>
            <a:br>
              <a:rPr sz="3200"/>
            </a:br>
            <a:r>
              <a:rPr b="1" lang="fr-FR" sz="3200" spc="-1" strike="noStrike">
                <a:solidFill>
                  <a:srgbClr val="000000"/>
                </a:solidFill>
                <a:latin typeface="Times New Roman"/>
              </a:rPr>
              <a:t>on GS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76520" y="1905120"/>
            <a:ext cx="1752480" cy="152280"/>
          </a:xfrm>
          <a:prstGeom prst="leftRightArrow">
            <a:avLst>
              <a:gd name="adj1" fmla="val 50000"/>
              <a:gd name="adj2" fmla="val 229100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134800" y="13716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G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07800" y="2819520"/>
            <a:ext cx="1165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WAP GS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termi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5410080" y="5486400"/>
          <a:ext cx="228600" cy="5335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410080" y="5486400"/>
                    <a:ext cx="22860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2362320" y="30481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5562720" y="2286000"/>
            <a:ext cx="1369800" cy="1142640"/>
            <a:chOff x="5562720" y="2286000"/>
            <a:chExt cx="1369800" cy="1142640"/>
          </a:xfrm>
        </p:grpSpPr>
        <p:grpSp>
          <p:nvGrpSpPr>
            <p:cNvPr id="65" name=""/>
            <p:cNvGrpSpPr/>
            <p:nvPr/>
          </p:nvGrpSpPr>
          <p:grpSpPr>
            <a:xfrm>
              <a:off x="5562720" y="2286000"/>
              <a:ext cx="1369800" cy="1142640"/>
              <a:chOff x="5562720" y="2286000"/>
              <a:chExt cx="1369800" cy="1142640"/>
            </a:xfrm>
          </p:grpSpPr>
          <p:grpSp>
            <p:nvGrpSpPr>
              <p:cNvPr id="66" name=""/>
              <p:cNvGrpSpPr/>
              <p:nvPr/>
            </p:nvGrpSpPr>
            <p:grpSpPr>
              <a:xfrm>
                <a:off x="6369120" y="2392560"/>
                <a:ext cx="563400" cy="981720"/>
                <a:chOff x="6369120" y="2392560"/>
                <a:chExt cx="563400" cy="981720"/>
              </a:xfrm>
            </p:grpSpPr>
            <p:grpSp>
              <p:nvGrpSpPr>
                <p:cNvPr id="67" name=""/>
                <p:cNvGrpSpPr/>
                <p:nvPr/>
              </p:nvGrpSpPr>
              <p:grpSpPr>
                <a:xfrm>
                  <a:off x="6588720" y="2392560"/>
                  <a:ext cx="343800" cy="788760"/>
                  <a:chOff x="6588720" y="2392560"/>
                  <a:chExt cx="343800" cy="788760"/>
                </a:xfrm>
              </p:grpSpPr>
              <p:grpSp>
                <p:nvGrpSpPr>
                  <p:cNvPr id="68" name=""/>
                  <p:cNvGrpSpPr/>
                  <p:nvPr/>
                </p:nvGrpSpPr>
                <p:grpSpPr>
                  <a:xfrm>
                    <a:off x="6678360" y="2495880"/>
                    <a:ext cx="254160" cy="577080"/>
                    <a:chOff x="6678360" y="2495880"/>
                    <a:chExt cx="254160" cy="577080"/>
                  </a:xfrm>
                </p:grpSpPr>
                <p:grpSp>
                  <p:nvGrpSpPr>
                    <p:cNvPr id="69" name=""/>
                    <p:cNvGrpSpPr/>
                    <p:nvPr/>
                  </p:nvGrpSpPr>
                  <p:grpSpPr>
                    <a:xfrm>
                      <a:off x="6678360" y="2495880"/>
                      <a:ext cx="254160" cy="577080"/>
                      <a:chOff x="6678360" y="2495880"/>
                      <a:chExt cx="254160" cy="577080"/>
                    </a:xfrm>
                  </p:grpSpPr>
                  <p:grpSp>
                    <p:nvGrpSpPr>
                      <p:cNvPr id="70" name=""/>
                      <p:cNvGrpSpPr/>
                      <p:nvPr/>
                    </p:nvGrpSpPr>
                    <p:grpSpPr>
                      <a:xfrm>
                        <a:off x="6744960" y="2531880"/>
                        <a:ext cx="187560" cy="471600"/>
                        <a:chOff x="6744960" y="2531880"/>
                        <a:chExt cx="187560" cy="471600"/>
                      </a:xfrm>
                    </p:grpSpPr>
                    <p:grpSp>
                      <p:nvGrpSpPr>
                        <p:cNvPr id="71" name=""/>
                        <p:cNvGrpSpPr/>
                        <p:nvPr/>
                      </p:nvGrpSpPr>
                      <p:grpSpPr>
                        <a:xfrm>
                          <a:off x="6767640" y="2531880"/>
                          <a:ext cx="164880" cy="471600"/>
                          <a:chOff x="6767640" y="2531880"/>
                          <a:chExt cx="164880" cy="471600"/>
                        </a:xfrm>
                      </p:grpSpPr>
                      <p:sp>
                        <p:nvSpPr>
                          <p:cNvPr id="72" name=""/>
                          <p:cNvSpPr/>
                          <p:nvPr/>
                        </p:nvSpPr>
                        <p:spPr>
                          <a:xfrm>
                            <a:off x="6856920" y="2812680"/>
                            <a:ext cx="75600" cy="12024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38160" bIns="3816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73" name=""/>
                          <p:cNvSpPr/>
                          <p:nvPr/>
                        </p:nvSpPr>
                        <p:spPr>
                          <a:xfrm>
                            <a:off x="6789240" y="2847240"/>
                            <a:ext cx="96120" cy="15624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74" name=""/>
                          <p:cNvSpPr/>
                          <p:nvPr/>
                        </p:nvSpPr>
                        <p:spPr>
                          <a:xfrm>
                            <a:off x="6834240" y="2637000"/>
                            <a:ext cx="76680" cy="12132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39240" bIns="3924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75" name=""/>
                          <p:cNvSpPr/>
                          <p:nvPr/>
                        </p:nvSpPr>
                        <p:spPr>
                          <a:xfrm>
                            <a:off x="6767640" y="2531880"/>
                            <a:ext cx="97560" cy="15624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76" name=""/>
                          <p:cNvSpPr/>
                          <p:nvPr/>
                        </p:nvSpPr>
                        <p:spPr>
                          <a:xfrm>
                            <a:off x="6835320" y="2637000"/>
                            <a:ext cx="67680" cy="27036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59" h="180">
                                <a:moveTo>
                                  <a:pt x="58" y="176"/>
                                </a:moveTo>
                                <a:lnTo>
                                  <a:pt x="32" y="179"/>
                                </a:lnTo>
                                <a:lnTo>
                                  <a:pt x="0" y="0"/>
                                </a:lnTo>
                                <a:lnTo>
                                  <a:pt x="36" y="13"/>
                                </a:lnTo>
                                <a:lnTo>
                                  <a:pt x="37" y="101"/>
                                </a:lnTo>
                                <a:lnTo>
                                  <a:pt x="58" y="176"/>
                                </a:lnTo>
                              </a:path>
                            </a:pathLst>
                          </a:cu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77" name=""/>
                        <p:cNvSpPr/>
                        <p:nvPr/>
                      </p:nvSpPr>
                      <p:spPr>
                        <a:xfrm>
                          <a:off x="6744960" y="2671560"/>
                          <a:ext cx="142200" cy="228600"/>
                        </a:xfrm>
                        <a:prstGeom prst="ellipse">
                          <a:avLst/>
                        </a:prstGeom>
                        <a:solidFill>
                          <a:srgbClr val="ffff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8" name=""/>
                        <p:cNvSpPr/>
                        <p:nvPr/>
                      </p:nvSpPr>
                      <p:spPr>
                        <a:xfrm>
                          <a:off x="6744960" y="2812680"/>
                          <a:ext cx="97560" cy="157680"/>
                        </a:xfrm>
                        <a:prstGeom prst="ellipse">
                          <a:avLst/>
                        </a:prstGeom>
                        <a:solidFill>
                          <a:srgbClr val="ffff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9" name=""/>
                        <p:cNvSpPr/>
                        <p:nvPr/>
                      </p:nvSpPr>
                      <p:spPr>
                        <a:xfrm>
                          <a:off x="6775920" y="2603880"/>
                          <a:ext cx="73440" cy="2930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64" h="195">
                              <a:moveTo>
                                <a:pt x="57" y="33"/>
                              </a:moveTo>
                              <a:lnTo>
                                <a:pt x="50" y="73"/>
                              </a:lnTo>
                              <a:lnTo>
                                <a:pt x="63" y="166"/>
                              </a:lnTo>
                              <a:lnTo>
                                <a:pt x="38" y="194"/>
                              </a:lnTo>
                              <a:lnTo>
                                <a:pt x="0" y="81"/>
                              </a:lnTo>
                              <a:lnTo>
                                <a:pt x="30" y="0"/>
                              </a:lnTo>
                              <a:lnTo>
                                <a:pt x="57" y="33"/>
                              </a:lnTo>
                            </a:path>
                          </a:pathLst>
                        </a:cu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80" name=""/>
                      <p:cNvSpPr/>
                      <p:nvPr/>
                    </p:nvSpPr>
                    <p:spPr>
                      <a:xfrm>
                        <a:off x="6744960" y="2952720"/>
                        <a:ext cx="74520" cy="12024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38160" bIns="381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1" name=""/>
                      <p:cNvSpPr/>
                      <p:nvPr/>
                    </p:nvSpPr>
                    <p:spPr>
                      <a:xfrm>
                        <a:off x="6678360" y="2495880"/>
                        <a:ext cx="98640" cy="15768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2" name=""/>
                      <p:cNvSpPr/>
                      <p:nvPr/>
                    </p:nvSpPr>
                    <p:spPr>
                      <a:xfrm>
                        <a:off x="6769080" y="2922840"/>
                        <a:ext cx="51840" cy="52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5" h="35">
                            <a:moveTo>
                              <a:pt x="44" y="21"/>
                            </a:moveTo>
                            <a:lnTo>
                              <a:pt x="30" y="34"/>
                            </a:lnTo>
                            <a:lnTo>
                              <a:pt x="0" y="17"/>
                            </a:lnTo>
                            <a:lnTo>
                              <a:pt x="30" y="0"/>
                            </a:lnTo>
                            <a:lnTo>
                              <a:pt x="44" y="21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5400" bIns="5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83" name=""/>
                    <p:cNvSpPr/>
                    <p:nvPr/>
                  </p:nvSpPr>
                  <p:spPr>
                    <a:xfrm>
                      <a:off x="6759720" y="2574000"/>
                      <a:ext cx="28440" cy="86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5" h="58">
                          <a:moveTo>
                            <a:pt x="12" y="0"/>
                          </a:moveTo>
                          <a:lnTo>
                            <a:pt x="24" y="1"/>
                          </a:lnTo>
                          <a:lnTo>
                            <a:pt x="19" y="57"/>
                          </a:lnTo>
                          <a:lnTo>
                            <a:pt x="0" y="46"/>
                          </a:lnTo>
                          <a:lnTo>
                            <a:pt x="12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84" name=""/>
                  <p:cNvGrpSpPr/>
                  <p:nvPr/>
                </p:nvGrpSpPr>
                <p:grpSpPr>
                  <a:xfrm>
                    <a:off x="6588720" y="2392560"/>
                    <a:ext cx="230400" cy="718200"/>
                    <a:chOff x="6588720" y="2392560"/>
                    <a:chExt cx="230400" cy="718200"/>
                  </a:xfrm>
                </p:grpSpPr>
                <p:sp>
                  <p:nvSpPr>
                    <p:cNvPr id="85" name=""/>
                    <p:cNvSpPr/>
                    <p:nvPr/>
                  </p:nvSpPr>
                  <p:spPr>
                    <a:xfrm>
                      <a:off x="6609240" y="2813400"/>
                      <a:ext cx="188640" cy="29736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6" name=""/>
                    <p:cNvSpPr/>
                    <p:nvPr/>
                  </p:nvSpPr>
                  <p:spPr>
                    <a:xfrm>
                      <a:off x="6632280" y="2601360"/>
                      <a:ext cx="186840" cy="29916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7" name=""/>
                    <p:cNvSpPr/>
                    <p:nvPr/>
                  </p:nvSpPr>
                  <p:spPr>
                    <a:xfrm>
                      <a:off x="6588720" y="2392560"/>
                      <a:ext cx="142200" cy="22680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8" name=""/>
                    <p:cNvSpPr/>
                    <p:nvPr/>
                  </p:nvSpPr>
                  <p:spPr>
                    <a:xfrm>
                      <a:off x="6678000" y="2532240"/>
                      <a:ext cx="74520" cy="1202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8160" bIns="38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9" name=""/>
                    <p:cNvSpPr/>
                    <p:nvPr/>
                  </p:nvSpPr>
                  <p:spPr>
                    <a:xfrm>
                      <a:off x="6632280" y="2505240"/>
                      <a:ext cx="127080" cy="26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1" h="175">
                          <a:moveTo>
                            <a:pt x="77" y="7"/>
                          </a:moveTo>
                          <a:lnTo>
                            <a:pt x="76" y="27"/>
                          </a:lnTo>
                          <a:lnTo>
                            <a:pt x="102" y="66"/>
                          </a:lnTo>
                          <a:lnTo>
                            <a:pt x="110" y="70"/>
                          </a:lnTo>
                          <a:lnTo>
                            <a:pt x="71" y="174"/>
                          </a:lnTo>
                          <a:lnTo>
                            <a:pt x="0" y="0"/>
                          </a:lnTo>
                          <a:lnTo>
                            <a:pt x="77" y="7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0" name=""/>
                    <p:cNvSpPr/>
                    <p:nvPr/>
                  </p:nvSpPr>
                  <p:spPr>
                    <a:xfrm>
                      <a:off x="6695280" y="2870280"/>
                      <a:ext cx="81360" cy="70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1" h="47">
                          <a:moveTo>
                            <a:pt x="62" y="7"/>
                          </a:moveTo>
                          <a:lnTo>
                            <a:pt x="70" y="21"/>
                          </a:lnTo>
                          <a:lnTo>
                            <a:pt x="0" y="46"/>
                          </a:lnTo>
                          <a:lnTo>
                            <a:pt x="2" y="0"/>
                          </a:lnTo>
                          <a:lnTo>
                            <a:pt x="62" y="7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760" bIns="23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91" name=""/>
                  <p:cNvSpPr/>
                  <p:nvPr/>
                </p:nvSpPr>
                <p:spPr>
                  <a:xfrm>
                    <a:off x="6588720" y="3025440"/>
                    <a:ext cx="97560" cy="155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" name=""/>
                  <p:cNvSpPr/>
                  <p:nvPr/>
                </p:nvSpPr>
                <p:spPr>
                  <a:xfrm>
                    <a:off x="6657480" y="3007440"/>
                    <a:ext cx="52560" cy="83880"/>
                  </a:xfrm>
                  <a:custGeom>
                    <a:avLst/>
                    <a:gdLst/>
                    <a:ahLst/>
                    <a:rect l="l" t="t" r="r" b="b"/>
                    <a:pathLst>
                      <a:path w="46" h="56">
                        <a:moveTo>
                          <a:pt x="18" y="55"/>
                        </a:moveTo>
                        <a:lnTo>
                          <a:pt x="45" y="36"/>
                        </a:lnTo>
                        <a:lnTo>
                          <a:pt x="14" y="0"/>
                        </a:lnTo>
                        <a:lnTo>
                          <a:pt x="0" y="20"/>
                        </a:lnTo>
                        <a:lnTo>
                          <a:pt x="18" y="55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080" bIns="37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93" name=""/>
                <p:cNvSpPr/>
                <p:nvPr/>
              </p:nvSpPr>
              <p:spPr>
                <a:xfrm>
                  <a:off x="6369120" y="3183480"/>
                  <a:ext cx="120600" cy="19080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6476040" y="3183480"/>
                  <a:ext cx="98640" cy="1576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>
                  <a:off x="6537960" y="3127680"/>
                  <a:ext cx="97560" cy="15480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" name=""/>
                <p:cNvSpPr/>
                <p:nvPr/>
              </p:nvSpPr>
              <p:spPr>
                <a:xfrm>
                  <a:off x="6447240" y="3099240"/>
                  <a:ext cx="211320" cy="220680"/>
                </a:xfrm>
                <a:custGeom>
                  <a:avLst/>
                  <a:gdLst/>
                  <a:ahLst/>
                  <a:rect l="l" t="t" r="r" b="b"/>
                  <a:pathLst>
                    <a:path w="184" h="147">
                      <a:moveTo>
                        <a:pt x="170" y="42"/>
                      </a:moveTo>
                      <a:lnTo>
                        <a:pt x="152" y="52"/>
                      </a:lnTo>
                      <a:lnTo>
                        <a:pt x="103" y="110"/>
                      </a:lnTo>
                      <a:lnTo>
                        <a:pt x="91" y="134"/>
                      </a:lnTo>
                      <a:lnTo>
                        <a:pt x="38" y="134"/>
                      </a:lnTo>
                      <a:lnTo>
                        <a:pt x="27" y="146"/>
                      </a:lnTo>
                      <a:lnTo>
                        <a:pt x="0" y="103"/>
                      </a:lnTo>
                      <a:lnTo>
                        <a:pt x="123" y="0"/>
                      </a:lnTo>
                      <a:lnTo>
                        <a:pt x="183" y="23"/>
                      </a:lnTo>
                      <a:lnTo>
                        <a:pt x="170" y="42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7" name=""/>
              <p:cNvGrpSpPr/>
              <p:nvPr/>
            </p:nvGrpSpPr>
            <p:grpSpPr>
              <a:xfrm>
                <a:off x="5562720" y="2398680"/>
                <a:ext cx="335520" cy="677520"/>
                <a:chOff x="5562720" y="2398680"/>
                <a:chExt cx="335520" cy="677520"/>
              </a:xfrm>
            </p:grpSpPr>
            <p:grpSp>
              <p:nvGrpSpPr>
                <p:cNvPr id="98" name=""/>
                <p:cNvGrpSpPr/>
                <p:nvPr/>
              </p:nvGrpSpPr>
              <p:grpSpPr>
                <a:xfrm>
                  <a:off x="5562720" y="2495880"/>
                  <a:ext cx="176400" cy="404280"/>
                  <a:chOff x="5562720" y="2495880"/>
                  <a:chExt cx="176400" cy="40428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>
                    <a:off x="5562720" y="2637000"/>
                    <a:ext cx="74160" cy="1216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600" bIns="39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>
                    <a:off x="5574960" y="2742480"/>
                    <a:ext cx="99720" cy="1576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" name=""/>
                  <p:cNvSpPr/>
                  <p:nvPr/>
                </p:nvSpPr>
                <p:spPr>
                  <a:xfrm>
                    <a:off x="5598000" y="2495880"/>
                    <a:ext cx="141120" cy="2286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" name=""/>
                  <p:cNvSpPr/>
                  <p:nvPr/>
                </p:nvSpPr>
                <p:spPr>
                  <a:xfrm>
                    <a:off x="5586480" y="2650680"/>
                    <a:ext cx="5148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45" h="84">
                        <a:moveTo>
                          <a:pt x="25" y="0"/>
                        </a:moveTo>
                        <a:lnTo>
                          <a:pt x="0" y="16"/>
                        </a:lnTo>
                        <a:lnTo>
                          <a:pt x="0" y="66"/>
                        </a:lnTo>
                        <a:lnTo>
                          <a:pt x="9" y="83"/>
                        </a:lnTo>
                        <a:lnTo>
                          <a:pt x="44" y="66"/>
                        </a:lnTo>
                        <a:lnTo>
                          <a:pt x="25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3" name=""/>
                <p:cNvGrpSpPr/>
                <p:nvPr/>
              </p:nvGrpSpPr>
              <p:grpSpPr>
                <a:xfrm>
                  <a:off x="5621040" y="2398680"/>
                  <a:ext cx="277200" cy="677520"/>
                  <a:chOff x="5621040" y="2398680"/>
                  <a:chExt cx="277200" cy="677520"/>
                </a:xfrm>
              </p:grpSpPr>
              <p:sp>
                <p:nvSpPr>
                  <p:cNvPr id="104" name=""/>
                  <p:cNvSpPr/>
                  <p:nvPr/>
                </p:nvSpPr>
                <p:spPr>
                  <a:xfrm>
                    <a:off x="5710680" y="2426760"/>
                    <a:ext cx="187560" cy="2977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>
                    <a:off x="5621040" y="2637360"/>
                    <a:ext cx="97560" cy="155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>
                    <a:off x="5642640" y="2742840"/>
                    <a:ext cx="144720" cy="2282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>
                    <a:off x="5687640" y="2847960"/>
                    <a:ext cx="143640" cy="2282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>
                    <a:off x="5699160" y="2571480"/>
                    <a:ext cx="126360" cy="1951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813280" y="2398680"/>
                    <a:ext cx="74520" cy="118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7080" bIns="37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>
                    <a:off x="5740560" y="2530800"/>
                    <a:ext cx="90720" cy="100440"/>
                  </a:xfrm>
                  <a:custGeom>
                    <a:avLst/>
                    <a:gdLst/>
                    <a:ahLst/>
                    <a:rect l="l" t="t" r="r" b="b"/>
                    <a:pathLst>
                      <a:path w="79" h="67">
                        <a:moveTo>
                          <a:pt x="0" y="18"/>
                        </a:moveTo>
                        <a:lnTo>
                          <a:pt x="9" y="48"/>
                        </a:lnTo>
                        <a:lnTo>
                          <a:pt x="78" y="66"/>
                        </a:lnTo>
                        <a:lnTo>
                          <a:pt x="78" y="25"/>
                        </a:lnTo>
                        <a:lnTo>
                          <a:pt x="5" y="0"/>
                        </a:lnTo>
                        <a:lnTo>
                          <a:pt x="0" y="18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>
                    <a:off x="5649840" y="2711160"/>
                    <a:ext cx="104400" cy="207000"/>
                  </a:xfrm>
                  <a:custGeom>
                    <a:avLst/>
                    <a:gdLst/>
                    <a:ahLst/>
                    <a:rect l="l" t="t" r="r" b="b"/>
                    <a:pathLst>
                      <a:path w="91" h="138">
                        <a:moveTo>
                          <a:pt x="55" y="0"/>
                        </a:moveTo>
                        <a:lnTo>
                          <a:pt x="0" y="34"/>
                        </a:lnTo>
                        <a:lnTo>
                          <a:pt x="23" y="61"/>
                        </a:lnTo>
                        <a:lnTo>
                          <a:pt x="26" y="128"/>
                        </a:lnTo>
                        <a:lnTo>
                          <a:pt x="39" y="137"/>
                        </a:lnTo>
                        <a:lnTo>
                          <a:pt x="86" y="94"/>
                        </a:lnTo>
                        <a:lnTo>
                          <a:pt x="90" y="13"/>
                        </a:lnTo>
                        <a:lnTo>
                          <a:pt x="55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5805000" y="2470320"/>
                  <a:ext cx="53640" cy="96480"/>
                </a:xfrm>
                <a:custGeom>
                  <a:avLst/>
                  <a:gdLst/>
                  <a:ahLst/>
                  <a:rect l="l" t="t" r="r" b="b"/>
                  <a:pathLst>
                    <a:path w="47" h="64">
                      <a:moveTo>
                        <a:pt x="0" y="34"/>
                      </a:moveTo>
                      <a:lnTo>
                        <a:pt x="19" y="0"/>
                      </a:lnTo>
                      <a:lnTo>
                        <a:pt x="46" y="34"/>
                      </a:lnTo>
                      <a:lnTo>
                        <a:pt x="24" y="63"/>
                      </a:lnTo>
                      <a:lnTo>
                        <a:pt x="0" y="34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" name=""/>
              <p:cNvGrpSpPr/>
              <p:nvPr/>
            </p:nvGrpSpPr>
            <p:grpSpPr>
              <a:xfrm>
                <a:off x="5734080" y="2286000"/>
                <a:ext cx="997200" cy="1142640"/>
                <a:chOff x="5734080" y="2286000"/>
                <a:chExt cx="997200" cy="114264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6048000" y="2320200"/>
                  <a:ext cx="233640" cy="3686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6250680" y="2286000"/>
                  <a:ext cx="187200" cy="29772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6431040" y="2601720"/>
                  <a:ext cx="300240" cy="4748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5845320" y="2813760"/>
                  <a:ext cx="346320" cy="54432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6341400" y="2884320"/>
                  <a:ext cx="254160" cy="40140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5755680" y="2920680"/>
                  <a:ext cx="187560" cy="2962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5734080" y="2672280"/>
                  <a:ext cx="186120" cy="29772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5822280" y="2392560"/>
                  <a:ext cx="302400" cy="4737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6094080" y="2953800"/>
                  <a:ext cx="300240" cy="4748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6476040" y="2427120"/>
                  <a:ext cx="233280" cy="3668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6406920" y="2286000"/>
                  <a:ext cx="211680" cy="3322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5811840" y="2374560"/>
                  <a:ext cx="867600" cy="908640"/>
                </a:xfrm>
                <a:custGeom>
                  <a:avLst/>
                  <a:gdLst/>
                  <a:ahLst/>
                  <a:rect l="l" t="t" r="r" b="b"/>
                  <a:pathLst>
                    <a:path w="754" h="604">
                      <a:moveTo>
                        <a:pt x="232" y="60"/>
                      </a:moveTo>
                      <a:lnTo>
                        <a:pt x="263" y="17"/>
                      </a:lnTo>
                      <a:lnTo>
                        <a:pt x="404" y="20"/>
                      </a:lnTo>
                      <a:lnTo>
                        <a:pt x="504" y="0"/>
                      </a:lnTo>
                      <a:lnTo>
                        <a:pt x="628" y="71"/>
                      </a:lnTo>
                      <a:lnTo>
                        <a:pt x="692" y="51"/>
                      </a:lnTo>
                      <a:lnTo>
                        <a:pt x="725" y="60"/>
                      </a:lnTo>
                      <a:lnTo>
                        <a:pt x="733" y="240"/>
                      </a:lnTo>
                      <a:lnTo>
                        <a:pt x="753" y="267"/>
                      </a:lnTo>
                      <a:lnTo>
                        <a:pt x="695" y="406"/>
                      </a:lnTo>
                      <a:lnTo>
                        <a:pt x="631" y="312"/>
                      </a:lnTo>
                      <a:lnTo>
                        <a:pt x="613" y="360"/>
                      </a:lnTo>
                      <a:lnTo>
                        <a:pt x="525" y="551"/>
                      </a:lnTo>
                      <a:lnTo>
                        <a:pt x="227" y="603"/>
                      </a:lnTo>
                      <a:lnTo>
                        <a:pt x="72" y="565"/>
                      </a:lnTo>
                      <a:lnTo>
                        <a:pt x="23" y="447"/>
                      </a:lnTo>
                      <a:lnTo>
                        <a:pt x="23" y="327"/>
                      </a:lnTo>
                      <a:lnTo>
                        <a:pt x="0" y="224"/>
                      </a:lnTo>
                      <a:lnTo>
                        <a:pt x="232" y="6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26" name=""/>
            <p:cNvSpPr/>
            <p:nvPr/>
          </p:nvSpPr>
          <p:spPr>
            <a:xfrm>
              <a:off x="5900760" y="2828880"/>
              <a:ext cx="1839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5257800" y="22096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7010280" y="2895480"/>
          <a:ext cx="228600" cy="5335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010280" y="2895480"/>
                    <a:ext cx="22860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" name=""/>
          <p:cNvSpPr/>
          <p:nvPr/>
        </p:nvSpPr>
        <p:spPr>
          <a:xfrm>
            <a:off x="6705720" y="31240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469280" y="762120"/>
            <a:ext cx="166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Operator’s serv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6705720" y="914400"/>
            <a:ext cx="76176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419720" y="533520"/>
            <a:ext cx="160020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Mobile operator gatew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(Home page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023880" y="762120"/>
            <a:ext cx="1241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Mobile operator</a:t>
            </a:r>
            <a:br>
              <a:rPr sz="1200"/>
            </a:b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por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6781680" y="137124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200720" y="1143000"/>
            <a:ext cx="141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Partner serv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972480" y="635040"/>
            <a:ext cx="2171520" cy="1104840"/>
          </a:xfrm>
          <a:custGeom>
            <a:avLst/>
            <a:gdLst/>
            <a:ahLst/>
            <a:rect l="l" t="t" r="r" b="b"/>
            <a:pathLst>
              <a:path w="1368" h="696">
                <a:moveTo>
                  <a:pt x="888" y="32"/>
                </a:moveTo>
                <a:cubicBezTo>
                  <a:pt x="696" y="32"/>
                  <a:pt x="240" y="16"/>
                  <a:pt x="120" y="80"/>
                </a:cubicBezTo>
                <a:cubicBezTo>
                  <a:pt x="0" y="144"/>
                  <a:pt x="128" y="320"/>
                  <a:pt x="168" y="416"/>
                </a:cubicBezTo>
                <a:cubicBezTo>
                  <a:pt x="208" y="512"/>
                  <a:pt x="224" y="616"/>
                  <a:pt x="360" y="656"/>
                </a:cubicBezTo>
                <a:cubicBezTo>
                  <a:pt x="496" y="696"/>
                  <a:pt x="824" y="680"/>
                  <a:pt x="984" y="656"/>
                </a:cubicBezTo>
                <a:cubicBezTo>
                  <a:pt x="1144" y="632"/>
                  <a:pt x="1272" y="608"/>
                  <a:pt x="1320" y="512"/>
                </a:cubicBezTo>
                <a:cubicBezTo>
                  <a:pt x="1368" y="416"/>
                  <a:pt x="1352" y="160"/>
                  <a:pt x="1272" y="80"/>
                </a:cubicBezTo>
                <a:cubicBezTo>
                  <a:pt x="1192" y="0"/>
                  <a:pt x="1080" y="32"/>
                  <a:pt x="888" y="32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999480" y="228600"/>
            <a:ext cx="1954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Operator’s service pack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160760" y="3429000"/>
            <a:ext cx="174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Third-party serv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41800" y="2209680"/>
            <a:ext cx="673200" cy="1600200"/>
          </a:xfrm>
          <a:custGeom>
            <a:avLst/>
            <a:gdLst/>
            <a:ahLst/>
            <a:rect l="l" t="t" r="r" b="b"/>
            <a:pathLst>
              <a:path w="1096" h="1200">
                <a:moveTo>
                  <a:pt x="88" y="0"/>
                </a:moveTo>
                <a:cubicBezTo>
                  <a:pt x="44" y="200"/>
                  <a:pt x="0" y="400"/>
                  <a:pt x="88" y="576"/>
                </a:cubicBezTo>
                <a:cubicBezTo>
                  <a:pt x="176" y="752"/>
                  <a:pt x="448" y="952"/>
                  <a:pt x="616" y="1056"/>
                </a:cubicBezTo>
                <a:cubicBezTo>
                  <a:pt x="784" y="1160"/>
                  <a:pt x="940" y="1180"/>
                  <a:pt x="1096" y="120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5715000" y="3581280"/>
          <a:ext cx="228600" cy="5335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715000" y="3581280"/>
                    <a:ext cx="22860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3" name=""/>
          <p:cNvSpPr/>
          <p:nvPr/>
        </p:nvSpPr>
        <p:spPr>
          <a:xfrm>
            <a:off x="5337000" y="4038480"/>
            <a:ext cx="1041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Competitor’s</a:t>
            </a:r>
            <a:br>
              <a:rPr sz="1200"/>
            </a:b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por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017760" y="3886200"/>
            <a:ext cx="174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Third-party serv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943600" y="38862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191120" y="4191120"/>
            <a:ext cx="152280" cy="60948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91120" y="3962520"/>
            <a:ext cx="7596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343400" y="4191120"/>
            <a:ext cx="99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N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870160" y="5867280"/>
            <a:ext cx="1041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Competitor’s</a:t>
            </a:r>
            <a:br>
              <a:rPr sz="1200"/>
            </a:b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por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017760" y="5562720"/>
            <a:ext cx="174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Third-party serv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638680" y="579132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724280" y="5715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2286000" y="5410080"/>
          <a:ext cx="228600" cy="5335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286000" y="5410080"/>
                    <a:ext cx="22860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" name=""/>
          <p:cNvSpPr/>
          <p:nvPr/>
        </p:nvSpPr>
        <p:spPr>
          <a:xfrm>
            <a:off x="1222200" y="5486400"/>
            <a:ext cx="1041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Competitor’s</a:t>
            </a:r>
            <a:br>
              <a:rPr sz="1200"/>
            </a:b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por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521720" y="6095880"/>
            <a:ext cx="174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Third-party serv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62320" y="5943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935760" y="13716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316640" y="28954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097320" y="42670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945040" y="51055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286000" y="518148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668320" y="56386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602000" y="3657600"/>
            <a:ext cx="52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>
                <a:solidFill>
                  <a:srgbClr val="000000"/>
                </a:solidFill>
                <a:latin typeface="Times New Roman"/>
              </a:rPr>
              <a:t>N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09480" y="4267080"/>
            <a:ext cx="160020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Competitor’s gatew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(Home page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572000" y="4648320"/>
            <a:ext cx="160020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Competitor’s gatew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(Home page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1981080" y="4267080"/>
          <a:ext cx="533520" cy="9144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981080" y="4267080"/>
                    <a:ext cx="53352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9" name=""/>
          <p:cNvGraphicFramePr/>
          <p:nvPr/>
        </p:nvGraphicFramePr>
        <p:xfrm>
          <a:off x="4191120" y="5181480"/>
          <a:ext cx="533160" cy="91440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4191120" y="5181480"/>
                    <a:ext cx="53316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1" name=""/>
          <p:cNvSpPr/>
          <p:nvPr/>
        </p:nvSpPr>
        <p:spPr>
          <a:xfrm>
            <a:off x="7623000" y="2895480"/>
            <a:ext cx="1041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Competitor’s</a:t>
            </a:r>
            <a:br>
              <a:rPr sz="1200"/>
            </a:b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por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953840" y="2133720"/>
            <a:ext cx="1104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Third-party</a:t>
            </a:r>
            <a:br>
              <a:rPr sz="1400"/>
            </a:b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781680" y="1828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267080" y="4800600"/>
            <a:ext cx="763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6934320" y="1752480"/>
            <a:ext cx="913680" cy="685800"/>
            <a:chOff x="6934320" y="1752480"/>
            <a:chExt cx="913680" cy="685800"/>
          </a:xfrm>
        </p:grpSpPr>
        <p:grpSp>
          <p:nvGrpSpPr>
            <p:cNvPr id="176" name=""/>
            <p:cNvGrpSpPr/>
            <p:nvPr/>
          </p:nvGrpSpPr>
          <p:grpSpPr>
            <a:xfrm>
              <a:off x="6934320" y="1752480"/>
              <a:ext cx="913680" cy="685800"/>
              <a:chOff x="6934320" y="1752480"/>
              <a:chExt cx="913680" cy="685800"/>
            </a:xfrm>
          </p:grpSpPr>
          <p:grpSp>
            <p:nvGrpSpPr>
              <p:cNvPr id="177" name=""/>
              <p:cNvGrpSpPr/>
              <p:nvPr/>
            </p:nvGrpSpPr>
            <p:grpSpPr>
              <a:xfrm>
                <a:off x="7472160" y="1816200"/>
                <a:ext cx="375840" cy="589320"/>
                <a:chOff x="7472160" y="1816200"/>
                <a:chExt cx="375840" cy="589320"/>
              </a:xfrm>
            </p:grpSpPr>
            <p:grpSp>
              <p:nvGrpSpPr>
                <p:cNvPr id="178" name=""/>
                <p:cNvGrpSpPr/>
                <p:nvPr/>
              </p:nvGrpSpPr>
              <p:grpSpPr>
                <a:xfrm>
                  <a:off x="7618680" y="1816200"/>
                  <a:ext cx="229320" cy="473400"/>
                  <a:chOff x="7618680" y="1816200"/>
                  <a:chExt cx="229320" cy="473400"/>
                </a:xfrm>
              </p:grpSpPr>
              <p:grpSp>
                <p:nvGrpSpPr>
                  <p:cNvPr id="179" name=""/>
                  <p:cNvGrpSpPr/>
                  <p:nvPr/>
                </p:nvGrpSpPr>
                <p:grpSpPr>
                  <a:xfrm>
                    <a:off x="7678440" y="1878120"/>
                    <a:ext cx="169560" cy="346320"/>
                    <a:chOff x="7678440" y="1878120"/>
                    <a:chExt cx="169560" cy="346320"/>
                  </a:xfrm>
                </p:grpSpPr>
                <p:grpSp>
                  <p:nvGrpSpPr>
                    <p:cNvPr id="180" name=""/>
                    <p:cNvGrpSpPr/>
                    <p:nvPr/>
                  </p:nvGrpSpPr>
                  <p:grpSpPr>
                    <a:xfrm>
                      <a:off x="7678440" y="1878120"/>
                      <a:ext cx="169560" cy="346320"/>
                      <a:chOff x="7678440" y="1878120"/>
                      <a:chExt cx="169560" cy="346320"/>
                    </a:xfrm>
                  </p:grpSpPr>
                  <p:grpSp>
                    <p:nvGrpSpPr>
                      <p:cNvPr id="181" name=""/>
                      <p:cNvGrpSpPr/>
                      <p:nvPr/>
                    </p:nvGrpSpPr>
                    <p:grpSpPr>
                      <a:xfrm>
                        <a:off x="7722720" y="1899720"/>
                        <a:ext cx="125280" cy="282960"/>
                        <a:chOff x="7722720" y="1899720"/>
                        <a:chExt cx="125280" cy="282960"/>
                      </a:xfrm>
                    </p:grpSpPr>
                    <p:grpSp>
                      <p:nvGrpSpPr>
                        <p:cNvPr id="182" name=""/>
                        <p:cNvGrpSpPr/>
                        <p:nvPr/>
                      </p:nvGrpSpPr>
                      <p:grpSpPr>
                        <a:xfrm>
                          <a:off x="7737840" y="1899720"/>
                          <a:ext cx="110160" cy="282960"/>
                          <a:chOff x="7737840" y="1899720"/>
                          <a:chExt cx="110160" cy="282960"/>
                        </a:xfrm>
                      </p:grpSpPr>
                      <p:sp>
                        <p:nvSpPr>
                          <p:cNvPr id="183" name=""/>
                          <p:cNvSpPr/>
                          <p:nvPr/>
                        </p:nvSpPr>
                        <p:spPr>
                          <a:xfrm>
                            <a:off x="7797600" y="2068560"/>
                            <a:ext cx="50400" cy="7200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320" bIns="432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84" name=""/>
                          <p:cNvSpPr/>
                          <p:nvPr/>
                        </p:nvSpPr>
                        <p:spPr>
                          <a:xfrm>
                            <a:off x="7752240" y="2089080"/>
                            <a:ext cx="64080" cy="9360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19440" bIns="1944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85" name=""/>
                          <p:cNvSpPr/>
                          <p:nvPr/>
                        </p:nvSpPr>
                        <p:spPr>
                          <a:xfrm>
                            <a:off x="7782120" y="1962720"/>
                            <a:ext cx="51120" cy="7272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5040" bIns="504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86" name=""/>
                          <p:cNvSpPr/>
                          <p:nvPr/>
                        </p:nvSpPr>
                        <p:spPr>
                          <a:xfrm>
                            <a:off x="7737840" y="1899720"/>
                            <a:ext cx="65160" cy="9360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19440" bIns="1944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87" name=""/>
                          <p:cNvSpPr/>
                          <p:nvPr/>
                        </p:nvSpPr>
                        <p:spPr>
                          <a:xfrm>
                            <a:off x="7782840" y="1962720"/>
                            <a:ext cx="45000" cy="16236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59" h="180">
                                <a:moveTo>
                                  <a:pt x="58" y="176"/>
                                </a:moveTo>
                                <a:lnTo>
                                  <a:pt x="32" y="179"/>
                                </a:lnTo>
                                <a:lnTo>
                                  <a:pt x="0" y="0"/>
                                </a:lnTo>
                                <a:lnTo>
                                  <a:pt x="36" y="13"/>
                                </a:lnTo>
                                <a:lnTo>
                                  <a:pt x="37" y="101"/>
                                </a:lnTo>
                                <a:lnTo>
                                  <a:pt x="58" y="176"/>
                                </a:lnTo>
                              </a:path>
                            </a:pathLst>
                          </a:cu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>
                          <a:off x="7722720" y="1983600"/>
                          <a:ext cx="95040" cy="137160"/>
                        </a:xfrm>
                        <a:prstGeom prst="ellipse">
                          <a:avLst/>
                        </a:prstGeom>
                        <a:solidFill>
                          <a:srgbClr val="ffff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>
                          <a:off x="7722720" y="2068560"/>
                          <a:ext cx="65160" cy="94680"/>
                        </a:xfrm>
                        <a:prstGeom prst="ellipse">
                          <a:avLst/>
                        </a:prstGeom>
                        <a:solidFill>
                          <a:srgbClr val="ffff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20520" bIns="2052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>
                          <a:off x="7743240" y="1942920"/>
                          <a:ext cx="48960" cy="175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64" h="195">
                              <a:moveTo>
                                <a:pt x="57" y="33"/>
                              </a:moveTo>
                              <a:lnTo>
                                <a:pt x="50" y="73"/>
                              </a:lnTo>
                              <a:lnTo>
                                <a:pt x="63" y="166"/>
                              </a:lnTo>
                              <a:lnTo>
                                <a:pt x="38" y="194"/>
                              </a:lnTo>
                              <a:lnTo>
                                <a:pt x="0" y="81"/>
                              </a:lnTo>
                              <a:lnTo>
                                <a:pt x="30" y="0"/>
                              </a:lnTo>
                              <a:lnTo>
                                <a:pt x="57" y="33"/>
                              </a:lnTo>
                            </a:path>
                          </a:pathLst>
                        </a:cu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191" name=""/>
                      <p:cNvSpPr/>
                      <p:nvPr/>
                    </p:nvSpPr>
                    <p:spPr>
                      <a:xfrm>
                        <a:off x="7722720" y="2152440"/>
                        <a:ext cx="49680" cy="7200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320" bIns="432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92" name=""/>
                      <p:cNvSpPr/>
                      <p:nvPr/>
                    </p:nvSpPr>
                    <p:spPr>
                      <a:xfrm>
                        <a:off x="7678440" y="1878120"/>
                        <a:ext cx="65880" cy="9468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0520" bIns="2052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93" name=""/>
                      <p:cNvSpPr/>
                      <p:nvPr/>
                    </p:nvSpPr>
                    <p:spPr>
                      <a:xfrm>
                        <a:off x="7738920" y="2134440"/>
                        <a:ext cx="34560" cy="31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5" h="35">
                            <a:moveTo>
                              <a:pt x="44" y="21"/>
                            </a:moveTo>
                            <a:lnTo>
                              <a:pt x="30" y="34"/>
                            </a:lnTo>
                            <a:lnTo>
                              <a:pt x="0" y="17"/>
                            </a:lnTo>
                            <a:lnTo>
                              <a:pt x="30" y="0"/>
                            </a:lnTo>
                            <a:lnTo>
                              <a:pt x="44" y="21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5480" bIns="-15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94" name=""/>
                    <p:cNvSpPr/>
                    <p:nvPr/>
                  </p:nvSpPr>
                  <p:spPr>
                    <a:xfrm>
                      <a:off x="7732800" y="1924920"/>
                      <a:ext cx="19080" cy="5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5" h="58">
                          <a:moveTo>
                            <a:pt x="12" y="0"/>
                          </a:moveTo>
                          <a:lnTo>
                            <a:pt x="24" y="1"/>
                          </a:lnTo>
                          <a:lnTo>
                            <a:pt x="19" y="57"/>
                          </a:lnTo>
                          <a:lnTo>
                            <a:pt x="0" y="46"/>
                          </a:lnTo>
                          <a:lnTo>
                            <a:pt x="12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5400" bIns="5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7618680" y="1816200"/>
                    <a:ext cx="154080" cy="431280"/>
                    <a:chOff x="7618680" y="1816200"/>
                    <a:chExt cx="154080" cy="43128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>
                      <a:off x="7632360" y="2068920"/>
                      <a:ext cx="126000" cy="17856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>
                      <a:off x="7647840" y="1941480"/>
                      <a:ext cx="124920" cy="1796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8" name=""/>
                    <p:cNvSpPr/>
                    <p:nvPr/>
                  </p:nvSpPr>
                  <p:spPr>
                    <a:xfrm>
                      <a:off x="7618680" y="1816200"/>
                      <a:ext cx="95040" cy="1360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9" name=""/>
                    <p:cNvSpPr/>
                    <p:nvPr/>
                  </p:nvSpPr>
                  <p:spPr>
                    <a:xfrm>
                      <a:off x="7678440" y="1900080"/>
                      <a:ext cx="49680" cy="7200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320" bIns="43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>
                      <a:off x="7647840" y="1883880"/>
                      <a:ext cx="84960" cy="15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1" h="175">
                          <a:moveTo>
                            <a:pt x="77" y="7"/>
                          </a:moveTo>
                          <a:lnTo>
                            <a:pt x="76" y="27"/>
                          </a:lnTo>
                          <a:lnTo>
                            <a:pt x="102" y="66"/>
                          </a:lnTo>
                          <a:lnTo>
                            <a:pt x="110" y="70"/>
                          </a:lnTo>
                          <a:lnTo>
                            <a:pt x="71" y="174"/>
                          </a:lnTo>
                          <a:lnTo>
                            <a:pt x="0" y="0"/>
                          </a:lnTo>
                          <a:lnTo>
                            <a:pt x="77" y="7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1" name=""/>
                    <p:cNvSpPr/>
                    <p:nvPr/>
                  </p:nvSpPr>
                  <p:spPr>
                    <a:xfrm>
                      <a:off x="7689960" y="2103120"/>
                      <a:ext cx="54360" cy="4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1" h="47">
                          <a:moveTo>
                            <a:pt x="62" y="7"/>
                          </a:moveTo>
                          <a:lnTo>
                            <a:pt x="70" y="21"/>
                          </a:lnTo>
                          <a:lnTo>
                            <a:pt x="0" y="46"/>
                          </a:lnTo>
                          <a:lnTo>
                            <a:pt x="2" y="0"/>
                          </a:lnTo>
                          <a:lnTo>
                            <a:pt x="62" y="7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20" bIns="-4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02" name=""/>
                  <p:cNvSpPr/>
                  <p:nvPr/>
                </p:nvSpPr>
                <p:spPr>
                  <a:xfrm>
                    <a:off x="7618680" y="2196000"/>
                    <a:ext cx="65160" cy="936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9440" bIns="19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3" name=""/>
                  <p:cNvSpPr/>
                  <p:nvPr/>
                </p:nvSpPr>
                <p:spPr>
                  <a:xfrm>
                    <a:off x="7664760" y="2185200"/>
                    <a:ext cx="34920" cy="50400"/>
                  </a:xfrm>
                  <a:custGeom>
                    <a:avLst/>
                    <a:gdLst/>
                    <a:ahLst/>
                    <a:rect l="l" t="t" r="r" b="b"/>
                    <a:pathLst>
                      <a:path w="46" h="56">
                        <a:moveTo>
                          <a:pt x="18" y="55"/>
                        </a:moveTo>
                        <a:lnTo>
                          <a:pt x="45" y="36"/>
                        </a:lnTo>
                        <a:lnTo>
                          <a:pt x="14" y="0"/>
                        </a:lnTo>
                        <a:lnTo>
                          <a:pt x="0" y="20"/>
                        </a:lnTo>
                        <a:lnTo>
                          <a:pt x="18" y="55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0" bIns="3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4" name=""/>
                <p:cNvSpPr/>
                <p:nvPr/>
              </p:nvSpPr>
              <p:spPr>
                <a:xfrm>
                  <a:off x="7472160" y="2291040"/>
                  <a:ext cx="80280" cy="1144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560" bIns="34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7543440" y="2291040"/>
                  <a:ext cx="65880" cy="946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520" bIns="20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7584840" y="2257200"/>
                  <a:ext cx="65160" cy="928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440" bIns="19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7524360" y="2240280"/>
                  <a:ext cx="141120" cy="132480"/>
                </a:xfrm>
                <a:custGeom>
                  <a:avLst/>
                  <a:gdLst/>
                  <a:ahLst/>
                  <a:rect l="l" t="t" r="r" b="b"/>
                  <a:pathLst>
                    <a:path w="184" h="147">
                      <a:moveTo>
                        <a:pt x="170" y="42"/>
                      </a:moveTo>
                      <a:lnTo>
                        <a:pt x="152" y="52"/>
                      </a:lnTo>
                      <a:lnTo>
                        <a:pt x="103" y="110"/>
                      </a:lnTo>
                      <a:lnTo>
                        <a:pt x="91" y="134"/>
                      </a:lnTo>
                      <a:lnTo>
                        <a:pt x="38" y="134"/>
                      </a:lnTo>
                      <a:lnTo>
                        <a:pt x="27" y="146"/>
                      </a:lnTo>
                      <a:lnTo>
                        <a:pt x="0" y="103"/>
                      </a:lnTo>
                      <a:lnTo>
                        <a:pt x="123" y="0"/>
                      </a:lnTo>
                      <a:lnTo>
                        <a:pt x="183" y="23"/>
                      </a:lnTo>
                      <a:lnTo>
                        <a:pt x="170" y="42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8" name=""/>
              <p:cNvGrpSpPr/>
              <p:nvPr/>
            </p:nvGrpSpPr>
            <p:grpSpPr>
              <a:xfrm>
                <a:off x="6934320" y="1820160"/>
                <a:ext cx="223920" cy="406440"/>
                <a:chOff x="6934320" y="1820160"/>
                <a:chExt cx="223920" cy="406440"/>
              </a:xfrm>
            </p:grpSpPr>
            <p:grpSp>
              <p:nvGrpSpPr>
                <p:cNvPr id="209" name=""/>
                <p:cNvGrpSpPr/>
                <p:nvPr/>
              </p:nvGrpSpPr>
              <p:grpSpPr>
                <a:xfrm>
                  <a:off x="6934320" y="1878480"/>
                  <a:ext cx="117720" cy="242640"/>
                  <a:chOff x="6934320" y="1878480"/>
                  <a:chExt cx="117720" cy="242640"/>
                </a:xfrm>
              </p:grpSpPr>
              <p:sp>
                <p:nvSpPr>
                  <p:cNvPr id="210" name=""/>
                  <p:cNvSpPr/>
                  <p:nvPr/>
                </p:nvSpPr>
                <p:spPr>
                  <a:xfrm>
                    <a:off x="6934320" y="1963080"/>
                    <a:ext cx="49680" cy="727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040" bIns="5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1" name=""/>
                  <p:cNvSpPr/>
                  <p:nvPr/>
                </p:nvSpPr>
                <p:spPr>
                  <a:xfrm>
                    <a:off x="6942600" y="2026440"/>
                    <a:ext cx="66600" cy="946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0520" bIns="20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957720" y="1878480"/>
                    <a:ext cx="94320" cy="1371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950160" y="1971360"/>
                    <a:ext cx="34560" cy="75600"/>
                  </a:xfrm>
                  <a:custGeom>
                    <a:avLst/>
                    <a:gdLst/>
                    <a:ahLst/>
                    <a:rect l="l" t="t" r="r" b="b"/>
                    <a:pathLst>
                      <a:path w="45" h="84">
                        <a:moveTo>
                          <a:pt x="25" y="0"/>
                        </a:moveTo>
                        <a:lnTo>
                          <a:pt x="0" y="16"/>
                        </a:lnTo>
                        <a:lnTo>
                          <a:pt x="0" y="66"/>
                        </a:lnTo>
                        <a:lnTo>
                          <a:pt x="9" y="83"/>
                        </a:lnTo>
                        <a:lnTo>
                          <a:pt x="44" y="66"/>
                        </a:lnTo>
                        <a:lnTo>
                          <a:pt x="25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0" bIns="28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4" name=""/>
                <p:cNvGrpSpPr/>
                <p:nvPr/>
              </p:nvGrpSpPr>
              <p:grpSpPr>
                <a:xfrm>
                  <a:off x="6973200" y="1820160"/>
                  <a:ext cx="185040" cy="406440"/>
                  <a:chOff x="6973200" y="1820160"/>
                  <a:chExt cx="185040" cy="406440"/>
                </a:xfrm>
              </p:grpSpPr>
              <p:sp>
                <p:nvSpPr>
                  <p:cNvPr id="215" name=""/>
                  <p:cNvSpPr/>
                  <p:nvPr/>
                </p:nvSpPr>
                <p:spPr>
                  <a:xfrm>
                    <a:off x="7032960" y="1837080"/>
                    <a:ext cx="125280" cy="1785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6" name=""/>
                  <p:cNvSpPr/>
                  <p:nvPr/>
                </p:nvSpPr>
                <p:spPr>
                  <a:xfrm>
                    <a:off x="6973200" y="1963440"/>
                    <a:ext cx="65160" cy="936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9440" bIns="19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7" name=""/>
                  <p:cNvSpPr/>
                  <p:nvPr/>
                </p:nvSpPr>
                <p:spPr>
                  <a:xfrm>
                    <a:off x="6987600" y="2026800"/>
                    <a:ext cx="96840" cy="1368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8" name=""/>
                  <p:cNvSpPr/>
                  <p:nvPr/>
                </p:nvSpPr>
                <p:spPr>
                  <a:xfrm>
                    <a:off x="7017480" y="2089800"/>
                    <a:ext cx="95760" cy="1368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9" name=""/>
                  <p:cNvSpPr/>
                  <p:nvPr/>
                </p:nvSpPr>
                <p:spPr>
                  <a:xfrm>
                    <a:off x="7025400" y="1923840"/>
                    <a:ext cx="84240" cy="1170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360" bIns="36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0" name=""/>
                  <p:cNvSpPr/>
                  <p:nvPr/>
                </p:nvSpPr>
                <p:spPr>
                  <a:xfrm>
                    <a:off x="7101360" y="1820160"/>
                    <a:ext cx="49680" cy="709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60" bIns="3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1" name=""/>
                  <p:cNvSpPr/>
                  <p:nvPr/>
                </p:nvSpPr>
                <p:spPr>
                  <a:xfrm>
                    <a:off x="7053120" y="1899360"/>
                    <a:ext cx="60480" cy="60120"/>
                  </a:xfrm>
                  <a:custGeom>
                    <a:avLst/>
                    <a:gdLst/>
                    <a:ahLst/>
                    <a:rect l="l" t="t" r="r" b="b"/>
                    <a:pathLst>
                      <a:path w="79" h="67">
                        <a:moveTo>
                          <a:pt x="0" y="18"/>
                        </a:moveTo>
                        <a:lnTo>
                          <a:pt x="9" y="48"/>
                        </a:lnTo>
                        <a:lnTo>
                          <a:pt x="78" y="66"/>
                        </a:lnTo>
                        <a:lnTo>
                          <a:pt x="78" y="25"/>
                        </a:lnTo>
                        <a:lnTo>
                          <a:pt x="5" y="0"/>
                        </a:lnTo>
                        <a:lnTo>
                          <a:pt x="0" y="18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320" bIns="13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992280" y="2007720"/>
                    <a:ext cx="69840" cy="12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1" h="138">
                        <a:moveTo>
                          <a:pt x="55" y="0"/>
                        </a:moveTo>
                        <a:lnTo>
                          <a:pt x="0" y="34"/>
                        </a:lnTo>
                        <a:lnTo>
                          <a:pt x="23" y="61"/>
                        </a:lnTo>
                        <a:lnTo>
                          <a:pt x="26" y="128"/>
                        </a:lnTo>
                        <a:lnTo>
                          <a:pt x="39" y="137"/>
                        </a:lnTo>
                        <a:lnTo>
                          <a:pt x="86" y="94"/>
                        </a:lnTo>
                        <a:lnTo>
                          <a:pt x="90" y="13"/>
                        </a:lnTo>
                        <a:lnTo>
                          <a:pt x="55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7095960" y="1863000"/>
                  <a:ext cx="36000" cy="57600"/>
                </a:xfrm>
                <a:custGeom>
                  <a:avLst/>
                  <a:gdLst/>
                  <a:ahLst/>
                  <a:rect l="l" t="t" r="r" b="b"/>
                  <a:pathLst>
                    <a:path w="47" h="64">
                      <a:moveTo>
                        <a:pt x="0" y="34"/>
                      </a:moveTo>
                      <a:lnTo>
                        <a:pt x="19" y="0"/>
                      </a:lnTo>
                      <a:lnTo>
                        <a:pt x="46" y="34"/>
                      </a:lnTo>
                      <a:lnTo>
                        <a:pt x="24" y="63"/>
                      </a:lnTo>
                      <a:lnTo>
                        <a:pt x="0" y="34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4" name=""/>
              <p:cNvGrpSpPr/>
              <p:nvPr/>
            </p:nvGrpSpPr>
            <p:grpSpPr>
              <a:xfrm>
                <a:off x="7048440" y="1752480"/>
                <a:ext cx="664920" cy="685800"/>
                <a:chOff x="7048440" y="1752480"/>
                <a:chExt cx="664920" cy="68580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7257600" y="1773000"/>
                  <a:ext cx="155880" cy="2210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7392600" y="1752480"/>
                  <a:ext cx="124560" cy="178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7513200" y="1941840"/>
                  <a:ext cx="200160" cy="28512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7122600" y="2069280"/>
                  <a:ext cx="230760" cy="32652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7453440" y="2111400"/>
                  <a:ext cx="169200" cy="2408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7062840" y="2133360"/>
                  <a:ext cx="124920" cy="1778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7048440" y="1984320"/>
                  <a:ext cx="124200" cy="178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7107120" y="1816200"/>
                  <a:ext cx="201600" cy="2840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7288200" y="2153160"/>
                  <a:ext cx="200160" cy="28512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7543080" y="1837080"/>
                  <a:ext cx="155520" cy="2199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7497000" y="1752480"/>
                  <a:ext cx="141120" cy="1994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7100280" y="1805400"/>
                  <a:ext cx="578160" cy="545040"/>
                </a:xfrm>
                <a:custGeom>
                  <a:avLst/>
                  <a:gdLst/>
                  <a:ahLst/>
                  <a:rect l="l" t="t" r="r" b="b"/>
                  <a:pathLst>
                    <a:path w="754" h="604">
                      <a:moveTo>
                        <a:pt x="232" y="60"/>
                      </a:moveTo>
                      <a:lnTo>
                        <a:pt x="263" y="17"/>
                      </a:lnTo>
                      <a:lnTo>
                        <a:pt x="404" y="20"/>
                      </a:lnTo>
                      <a:lnTo>
                        <a:pt x="504" y="0"/>
                      </a:lnTo>
                      <a:lnTo>
                        <a:pt x="628" y="71"/>
                      </a:lnTo>
                      <a:lnTo>
                        <a:pt x="692" y="51"/>
                      </a:lnTo>
                      <a:lnTo>
                        <a:pt x="725" y="60"/>
                      </a:lnTo>
                      <a:lnTo>
                        <a:pt x="733" y="240"/>
                      </a:lnTo>
                      <a:lnTo>
                        <a:pt x="753" y="267"/>
                      </a:lnTo>
                      <a:lnTo>
                        <a:pt x="695" y="406"/>
                      </a:lnTo>
                      <a:lnTo>
                        <a:pt x="631" y="312"/>
                      </a:lnTo>
                      <a:lnTo>
                        <a:pt x="613" y="360"/>
                      </a:lnTo>
                      <a:lnTo>
                        <a:pt x="525" y="551"/>
                      </a:lnTo>
                      <a:lnTo>
                        <a:pt x="227" y="603"/>
                      </a:lnTo>
                      <a:lnTo>
                        <a:pt x="72" y="565"/>
                      </a:lnTo>
                      <a:lnTo>
                        <a:pt x="23" y="447"/>
                      </a:lnTo>
                      <a:lnTo>
                        <a:pt x="23" y="327"/>
                      </a:lnTo>
                      <a:lnTo>
                        <a:pt x="0" y="224"/>
                      </a:lnTo>
                      <a:lnTo>
                        <a:pt x="232" y="6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37" name=""/>
            <p:cNvSpPr/>
            <p:nvPr/>
          </p:nvSpPr>
          <p:spPr>
            <a:xfrm>
              <a:off x="7159680" y="2078280"/>
              <a:ext cx="183960" cy="30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8" name=""/>
          <p:cNvSpPr/>
          <p:nvPr/>
        </p:nvSpPr>
        <p:spPr>
          <a:xfrm>
            <a:off x="7012800" y="1905120"/>
            <a:ext cx="71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9800" y="2743200"/>
            <a:ext cx="71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772400" y="2209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47040" y="4343400"/>
            <a:ext cx="1986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Fixed telecom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200400" y="3200400"/>
            <a:ext cx="1447920" cy="8380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352680" y="2895480"/>
            <a:ext cx="22860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789280" y="3124080"/>
            <a:ext cx="234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Fixed 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telecom 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et Mobile recommendations Nov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28T15:49:06Z</dcterms:created>
  <dc:creator>ART</dc:creator>
  <dc:description/>
  <dc:language>en-US</dc:language>
  <cp:lastModifiedBy>Kimberly Y. De Haan</cp:lastModifiedBy>
  <cp:lastPrinted>2000-11-09T13:38:05Z</cp:lastPrinted>
  <dcterms:modified xsi:type="dcterms:W3CDTF">2000-11-21T10:58:33Z</dcterms:modified>
  <cp:revision>22</cp:revision>
  <dc:subject/>
  <dc:title>Aucun titre de diapositive</dc:title>
</cp:coreProperties>
</file>