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6D0-3C4B-4922-BBB3-E0412470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424-2EB4-4C7D-A163-6DBF178D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A63-A926-4B00-AF08-324BFF19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6E3-C8C4-4618-A0AE-CAE435D1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B6D-6370-4C93-811E-9699038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2AE-AE21-4E34-95BD-8BF20A60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CA0-73A6-4B2C-8BB9-95A19ED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DC6-8DF8-42A3-886E-A79B4E23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9B0-0AAC-4F5C-A8CC-98AD282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D49-86F7-485E-8720-C8753F9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B4B-B1C3-4082-BD20-242670F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B0E-DD5E-4B1E-A67F-449C17A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DCE-6142-4D54-80B9-2825418E5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23623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3124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320"/>
            <a:ext cx="426708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on GPRS (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133720"/>
            <a:ext cx="2209680" cy="152280"/>
          </a:xfrm>
          <a:prstGeom prst="leftRightArrow">
            <a:avLst>
              <a:gd name="adj1" fmla="val 50000"/>
              <a:gd name="adj2" fmla="val 2888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4120" y="1752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819520"/>
            <a:ext cx="9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77120" y="518148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181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59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65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9640" y="762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2800" y="762120"/>
            <a:ext cx="85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64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209680"/>
            <a:ext cx="2044800" cy="175284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86600" y="365760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3657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1480" y="3860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6720" y="4114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7440" y="56894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5840" y="5486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525780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2578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3840" y="53848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3640" y="617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17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95280" y="4876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57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4038480"/>
          <a:ext cx="5331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4038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724280"/>
          <a:ext cx="5335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7242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619040" y="28702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6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1676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9280" y="320040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09680" y="4038480"/>
            <a:ext cx="1141560" cy="990720"/>
            <a:chOff x="2209680" y="4038480"/>
            <a:chExt cx="1141560" cy="990720"/>
          </a:xfrm>
        </p:grpSpPr>
        <p:grpSp>
          <p:nvGrpSpPr>
            <p:cNvPr id="237" name=""/>
            <p:cNvGrpSpPr/>
            <p:nvPr/>
          </p:nvGrpSpPr>
          <p:grpSpPr>
            <a:xfrm>
              <a:off x="2209680" y="4038480"/>
              <a:ext cx="1141560" cy="990720"/>
              <a:chOff x="2209680" y="4038480"/>
              <a:chExt cx="1141560" cy="990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881800" y="4131000"/>
                <a:ext cx="469440" cy="851040"/>
                <a:chOff x="2881800" y="4131000"/>
                <a:chExt cx="469440" cy="851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064680" y="4131000"/>
                  <a:ext cx="286560" cy="684360"/>
                  <a:chOff x="3064680" y="4131000"/>
                  <a:chExt cx="286560" cy="684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139200" y="4220640"/>
                    <a:ext cx="212040" cy="500400"/>
                    <a:chOff x="3139200" y="4220640"/>
                    <a:chExt cx="212040" cy="5004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139200" y="4220640"/>
                      <a:ext cx="212040" cy="500400"/>
                      <a:chOff x="3139200" y="4220640"/>
                      <a:chExt cx="212040" cy="50040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194640" y="4251960"/>
                        <a:ext cx="156600" cy="408960"/>
                        <a:chOff x="3194640" y="4251960"/>
                        <a:chExt cx="156600" cy="40896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3213720" y="4251960"/>
                          <a:ext cx="137520" cy="408960"/>
                          <a:chOff x="3213720" y="4251960"/>
                          <a:chExt cx="137520" cy="40896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88240" y="4495680"/>
                            <a:ext cx="63000" cy="10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000" bIns="27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31720" y="4525560"/>
                            <a:ext cx="8028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269160" y="4343040"/>
                            <a:ext cx="64080" cy="105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720" bIns="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213720" y="4251960"/>
                            <a:ext cx="8136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269880" y="4343040"/>
                            <a:ext cx="56160" cy="23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194640" y="4372920"/>
                          <a:ext cx="118800" cy="198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3194640" y="4495680"/>
                          <a:ext cx="81360" cy="13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20200" y="4314600"/>
                          <a:ext cx="6120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194640" y="4617000"/>
                        <a:ext cx="61920" cy="10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139200" y="4220640"/>
                        <a:ext cx="82080" cy="13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3214440" y="4591080"/>
                        <a:ext cx="432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206880" y="4288320"/>
                      <a:ext cx="237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64680" y="4131000"/>
                    <a:ext cx="192240" cy="622800"/>
                    <a:chOff x="3064680" y="4131000"/>
                    <a:chExt cx="192240" cy="622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081600" y="4496040"/>
                      <a:ext cx="156960" cy="25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101040" y="4312080"/>
                      <a:ext cx="15588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64680" y="4131000"/>
                      <a:ext cx="11844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139200" y="4251960"/>
                      <a:ext cx="62280" cy="10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101040" y="4228560"/>
                      <a:ext cx="10584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153600" y="4545360"/>
                      <a:ext cx="6768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3064680" y="468000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1920" y="4664160"/>
                    <a:ext cx="43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2881800" y="4816800"/>
                  <a:ext cx="100440" cy="165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70720" y="4816800"/>
                  <a:ext cx="82080" cy="136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22560" y="4768200"/>
                  <a:ext cx="81360" cy="134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46960" y="4743720"/>
                  <a:ext cx="176040" cy="19152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09680" y="4136040"/>
                <a:ext cx="279360" cy="587520"/>
                <a:chOff x="2209680" y="4136040"/>
                <a:chExt cx="279360" cy="58752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209680" y="4220280"/>
                  <a:ext cx="147600" cy="350280"/>
                  <a:chOff x="2209680" y="4220280"/>
                  <a:chExt cx="147600" cy="350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209680" y="4342680"/>
                    <a:ext cx="61920" cy="10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20120" y="4434120"/>
                    <a:ext cx="835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39200" y="4220280"/>
                    <a:ext cx="11808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29480" y="4354560"/>
                    <a:ext cx="432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258280" y="4136040"/>
                  <a:ext cx="230760" cy="587520"/>
                  <a:chOff x="2258280" y="4136040"/>
                  <a:chExt cx="230760" cy="58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32800" y="4160520"/>
                    <a:ext cx="156240" cy="258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58280" y="434304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76280" y="4434480"/>
                    <a:ext cx="12096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13720" y="4525560"/>
                    <a:ext cx="11952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323440" y="4285800"/>
                    <a:ext cx="105480" cy="16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418480" y="4136040"/>
                    <a:ext cx="6228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0" y="4250520"/>
                    <a:ext cx="75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2400" y="4406760"/>
                    <a:ext cx="8712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2411640" y="419832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52240" y="4038480"/>
                <a:ext cx="831240" cy="990720"/>
                <a:chOff x="2352240" y="4038480"/>
                <a:chExt cx="831240" cy="990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13600" y="4068000"/>
                  <a:ext cx="194760" cy="31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82800" y="4038480"/>
                  <a:ext cx="15588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33280" y="431208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44760" y="4496040"/>
                  <a:ext cx="2887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8400" y="4557240"/>
                  <a:ext cx="211680" cy="34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70240" y="4588560"/>
                  <a:ext cx="156240" cy="256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52240" y="4373280"/>
                  <a:ext cx="15516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5680" y="4131000"/>
                  <a:ext cx="252000" cy="41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52120" y="461736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70720" y="4160880"/>
                  <a:ext cx="194400" cy="317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912760" y="4038480"/>
                  <a:ext cx="176400" cy="288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17040" y="4115160"/>
                  <a:ext cx="722880" cy="78732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2428200" y="4509000"/>
              <a:ext cx="185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40800" y="43434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971800" y="5257800"/>
          <a:ext cx="53352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2578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9880" y="5486400"/>
          <a:ext cx="2286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98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52480" y="5105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4240" y="5003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0360" y="58672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5200" y="53341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 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14Z</cp:lastPrinted>
  <dcterms:modified xsi:type="dcterms:W3CDTF">2000-11-21T10:59:17Z</dcterms:modified>
  <cp:revision>24</cp:revision>
  <dc:subject/>
  <dc:title>Aucun titre de diapositive</dc:title>
</cp:coreProperties>
</file>