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4825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C850-1202-4996-9D56-68ED06E0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4F88-4BDE-4C2B-9902-52E52483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7788-68C6-4086-A422-DBC4B3FF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FCDD-4F77-424C-B49C-26327ED98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6F2F-FF95-4908-9DEB-F89939D2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51B9-128E-48B1-9C26-2D2C0F45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8136-C816-441B-B789-4F595469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63FA-CE25-4D83-AB99-727D11F4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D47A-2B1E-43E4-B2EA-82E61351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5C1A-E6C6-4027-B559-4E6A163E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DE3D-3747-4233-9CA1-E0F42F3A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C43B-C1C1-4E10-8EAB-7C3B8EC4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F0B4-0CEF-4154-8002-F1321DC71C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.wm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2133720"/>
            <a:ext cx="2057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Mobil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828800"/>
          <a:ext cx="235080" cy="103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23508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143000" y="1752480"/>
          <a:ext cx="73836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752480"/>
                    <a:ext cx="73836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876920" y="1295280"/>
          <a:ext cx="53316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1295280"/>
                    <a:ext cx="53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4191120" y="1447920"/>
            <a:ext cx="152280" cy="609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5720" y="144792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3505320"/>
            <a:ext cx="152640" cy="609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553080" y="1371600"/>
          <a:ext cx="22860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53080" y="137160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4343400" y="1600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1676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133360" y="4114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505320" y="198072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76320"/>
            <a:ext cx="42670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Appendix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WAP architectures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on G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1905120"/>
            <a:ext cx="1752480" cy="152280"/>
          </a:xfrm>
          <a:prstGeom prst="leftRightArrow">
            <a:avLst>
              <a:gd name="adj1" fmla="val 50000"/>
              <a:gd name="adj2" fmla="val 2291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34800" y="1371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7800" y="2819520"/>
            <a:ext cx="116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WAP G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410080" y="5486400"/>
          <a:ext cx="228600" cy="533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10080" y="548640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3623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562720" y="2286000"/>
            <a:ext cx="1369800" cy="1142640"/>
            <a:chOff x="5562720" y="2286000"/>
            <a:chExt cx="1369800" cy="1142640"/>
          </a:xfrm>
        </p:grpSpPr>
        <p:grpSp>
          <p:nvGrpSpPr>
            <p:cNvPr id="65" name=""/>
            <p:cNvGrpSpPr/>
            <p:nvPr/>
          </p:nvGrpSpPr>
          <p:grpSpPr>
            <a:xfrm>
              <a:off x="5562720" y="2286000"/>
              <a:ext cx="1369800" cy="1142640"/>
              <a:chOff x="5562720" y="2286000"/>
              <a:chExt cx="1369800" cy="114264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6369120" y="2392560"/>
                <a:ext cx="563400" cy="981720"/>
                <a:chOff x="6369120" y="2392560"/>
                <a:chExt cx="563400" cy="981720"/>
              </a:xfrm>
            </p:grpSpPr>
            <p:grpSp>
              <p:nvGrpSpPr>
                <p:cNvPr id="67" name=""/>
                <p:cNvGrpSpPr/>
                <p:nvPr/>
              </p:nvGrpSpPr>
              <p:grpSpPr>
                <a:xfrm>
                  <a:off x="6588720" y="2392560"/>
                  <a:ext cx="343800" cy="788760"/>
                  <a:chOff x="6588720" y="2392560"/>
                  <a:chExt cx="343800" cy="788760"/>
                </a:xfrm>
              </p:grpSpPr>
              <p:grpSp>
                <p:nvGrpSpPr>
                  <p:cNvPr id="68" name=""/>
                  <p:cNvGrpSpPr/>
                  <p:nvPr/>
                </p:nvGrpSpPr>
                <p:grpSpPr>
                  <a:xfrm>
                    <a:off x="6678360" y="2495880"/>
                    <a:ext cx="254160" cy="577080"/>
                    <a:chOff x="6678360" y="2495880"/>
                    <a:chExt cx="254160" cy="577080"/>
                  </a:xfrm>
                </p:grpSpPr>
                <p:grpSp>
                  <p:nvGrpSpPr>
                    <p:cNvPr id="69" name=""/>
                    <p:cNvGrpSpPr/>
                    <p:nvPr/>
                  </p:nvGrpSpPr>
                  <p:grpSpPr>
                    <a:xfrm>
                      <a:off x="6678360" y="2495880"/>
                      <a:ext cx="254160" cy="577080"/>
                      <a:chOff x="6678360" y="2495880"/>
                      <a:chExt cx="254160" cy="577080"/>
                    </a:xfrm>
                  </p:grpSpPr>
                  <p:grpSp>
                    <p:nvGrpSpPr>
                      <p:cNvPr id="70" name=""/>
                      <p:cNvGrpSpPr/>
                      <p:nvPr/>
                    </p:nvGrpSpPr>
                    <p:grpSpPr>
                      <a:xfrm>
                        <a:off x="6744960" y="2531880"/>
                        <a:ext cx="187560" cy="471600"/>
                        <a:chOff x="6744960" y="2531880"/>
                        <a:chExt cx="187560" cy="471600"/>
                      </a:xfrm>
                    </p:grpSpPr>
                    <p:grpSp>
                      <p:nvGrpSpPr>
                        <p:cNvPr id="71" name=""/>
                        <p:cNvGrpSpPr/>
                        <p:nvPr/>
                      </p:nvGrpSpPr>
                      <p:grpSpPr>
                        <a:xfrm>
                          <a:off x="6767640" y="2531880"/>
                          <a:ext cx="164880" cy="471600"/>
                          <a:chOff x="6767640" y="2531880"/>
                          <a:chExt cx="164880" cy="471600"/>
                        </a:xfrm>
                      </p:grpSpPr>
                      <p:sp>
                        <p:nvSpPr>
                          <p:cNvPr id="72" name=""/>
                          <p:cNvSpPr/>
                          <p:nvPr/>
                        </p:nvSpPr>
                        <p:spPr>
                          <a:xfrm>
                            <a:off x="6856920" y="2812680"/>
                            <a:ext cx="75600" cy="120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8160" bIns="381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" name=""/>
                          <p:cNvSpPr/>
                          <p:nvPr/>
                        </p:nvSpPr>
                        <p:spPr>
                          <a:xfrm>
                            <a:off x="6789240" y="2847240"/>
                            <a:ext cx="96120" cy="156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" name=""/>
                          <p:cNvSpPr/>
                          <p:nvPr/>
                        </p:nvSpPr>
                        <p:spPr>
                          <a:xfrm>
                            <a:off x="6834240" y="2637000"/>
                            <a:ext cx="76680" cy="1213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9240" bIns="392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5" name=""/>
                          <p:cNvSpPr/>
                          <p:nvPr/>
                        </p:nvSpPr>
                        <p:spPr>
                          <a:xfrm>
                            <a:off x="6767640" y="2531880"/>
                            <a:ext cx="97560" cy="156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6" name=""/>
                          <p:cNvSpPr/>
                          <p:nvPr/>
                        </p:nvSpPr>
                        <p:spPr>
                          <a:xfrm>
                            <a:off x="6835320" y="2637000"/>
                            <a:ext cx="67680" cy="270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9" h="180">
                                <a:moveTo>
                                  <a:pt x="58" y="176"/>
                                </a:moveTo>
                                <a:lnTo>
                                  <a:pt x="32" y="179"/>
                                </a:lnTo>
                                <a:lnTo>
                                  <a:pt x="0" y="0"/>
                                </a:lnTo>
                                <a:lnTo>
                                  <a:pt x="36" y="13"/>
                                </a:lnTo>
                                <a:lnTo>
                                  <a:pt x="37" y="101"/>
                                </a:lnTo>
                                <a:lnTo>
                                  <a:pt x="58" y="176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>
                          <a:off x="6744960" y="2671560"/>
                          <a:ext cx="142200" cy="228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>
                          <a:off x="6744960" y="2812680"/>
                          <a:ext cx="97560" cy="1576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>
                          <a:off x="6775920" y="2603880"/>
                          <a:ext cx="73440" cy="293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4" h="195">
                              <a:moveTo>
                                <a:pt x="57" y="33"/>
                              </a:moveTo>
                              <a:lnTo>
                                <a:pt x="50" y="73"/>
                              </a:lnTo>
                              <a:lnTo>
                                <a:pt x="63" y="166"/>
                              </a:lnTo>
                              <a:lnTo>
                                <a:pt x="38" y="194"/>
                              </a:lnTo>
                              <a:lnTo>
                                <a:pt x="0" y="81"/>
                              </a:lnTo>
                              <a:lnTo>
                                <a:pt x="30" y="0"/>
                              </a:lnTo>
                              <a:lnTo>
                                <a:pt x="57" y="33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80" name=""/>
                      <p:cNvSpPr/>
                      <p:nvPr/>
                    </p:nvSpPr>
                    <p:spPr>
                      <a:xfrm>
                        <a:off x="6744960" y="2952720"/>
                        <a:ext cx="74520" cy="12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" name=""/>
                      <p:cNvSpPr/>
                      <p:nvPr/>
                    </p:nvSpPr>
                    <p:spPr>
                      <a:xfrm>
                        <a:off x="6678360" y="2495880"/>
                        <a:ext cx="98640" cy="1576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" name=""/>
                      <p:cNvSpPr/>
                      <p:nvPr/>
                    </p:nvSpPr>
                    <p:spPr>
                      <a:xfrm>
                        <a:off x="6769080" y="2922840"/>
                        <a:ext cx="518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35">
                            <a:moveTo>
                              <a:pt x="44" y="21"/>
                            </a:moveTo>
                            <a:lnTo>
                              <a:pt x="30" y="34"/>
                            </a:lnTo>
                            <a:lnTo>
                              <a:pt x="0" y="17"/>
                            </a:lnTo>
                            <a:lnTo>
                              <a:pt x="30" y="0"/>
                            </a:lnTo>
                            <a:lnTo>
                              <a:pt x="44" y="2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6759720" y="2574000"/>
                      <a:ext cx="28440" cy="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58">
                          <a:moveTo>
                            <a:pt x="12" y="0"/>
                          </a:moveTo>
                          <a:lnTo>
                            <a:pt x="24" y="1"/>
                          </a:lnTo>
                          <a:lnTo>
                            <a:pt x="19" y="57"/>
                          </a:lnTo>
                          <a:lnTo>
                            <a:pt x="0" y="4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4" name=""/>
                  <p:cNvGrpSpPr/>
                  <p:nvPr/>
                </p:nvGrpSpPr>
                <p:grpSpPr>
                  <a:xfrm>
                    <a:off x="6588720" y="2392560"/>
                    <a:ext cx="230400" cy="718200"/>
                    <a:chOff x="6588720" y="2392560"/>
                    <a:chExt cx="230400" cy="718200"/>
                  </a:xfrm>
                </p:grpSpPr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6609240" y="2813400"/>
                      <a:ext cx="188640" cy="2973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6632280" y="2601360"/>
                      <a:ext cx="186840" cy="2991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6588720" y="2392560"/>
                      <a:ext cx="142200" cy="226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6678000" y="2532240"/>
                      <a:ext cx="74520" cy="120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8160" bIns="38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6632280" y="2505240"/>
                      <a:ext cx="127080" cy="26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75">
                          <a:moveTo>
                            <a:pt x="77" y="7"/>
                          </a:moveTo>
                          <a:lnTo>
                            <a:pt x="76" y="27"/>
                          </a:lnTo>
                          <a:lnTo>
                            <a:pt x="102" y="66"/>
                          </a:lnTo>
                          <a:lnTo>
                            <a:pt x="110" y="70"/>
                          </a:lnTo>
                          <a:lnTo>
                            <a:pt x="71" y="174"/>
                          </a:lnTo>
                          <a:lnTo>
                            <a:pt x="0" y="0"/>
                          </a:lnTo>
                          <a:lnTo>
                            <a:pt x="77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6695280" y="2870280"/>
                      <a:ext cx="81360" cy="7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47">
                          <a:moveTo>
                            <a:pt x="62" y="7"/>
                          </a:moveTo>
                          <a:lnTo>
                            <a:pt x="70" y="21"/>
                          </a:lnTo>
                          <a:lnTo>
                            <a:pt x="0" y="46"/>
                          </a:lnTo>
                          <a:lnTo>
                            <a:pt x="2" y="0"/>
                          </a:lnTo>
                          <a:lnTo>
                            <a:pt x="62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1" name=""/>
                  <p:cNvSpPr/>
                  <p:nvPr/>
                </p:nvSpPr>
                <p:spPr>
                  <a:xfrm>
                    <a:off x="6588720" y="3025440"/>
                    <a:ext cx="97560" cy="155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6657480" y="3007440"/>
                    <a:ext cx="5256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6">
                        <a:moveTo>
                          <a:pt x="18" y="55"/>
                        </a:moveTo>
                        <a:lnTo>
                          <a:pt x="45" y="36"/>
                        </a:lnTo>
                        <a:lnTo>
                          <a:pt x="14" y="0"/>
                        </a:lnTo>
                        <a:lnTo>
                          <a:pt x="0" y="20"/>
                        </a:lnTo>
                        <a:lnTo>
                          <a:pt x="18" y="5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" name=""/>
                <p:cNvSpPr/>
                <p:nvPr/>
              </p:nvSpPr>
              <p:spPr>
                <a:xfrm>
                  <a:off x="6369120" y="3183480"/>
                  <a:ext cx="120600" cy="1908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6476040" y="3183480"/>
                  <a:ext cx="98640" cy="157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537960" y="3127680"/>
                  <a:ext cx="97560" cy="1548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447240" y="3099240"/>
                  <a:ext cx="211320" cy="220680"/>
                </a:xfrm>
                <a:custGeom>
                  <a:avLst/>
                  <a:gdLst/>
                  <a:ahLst/>
                  <a:rect l="l" t="t" r="r" b="b"/>
                  <a:pathLst>
                    <a:path w="184" h="147">
                      <a:moveTo>
                        <a:pt x="170" y="42"/>
                      </a:moveTo>
                      <a:lnTo>
                        <a:pt x="152" y="52"/>
                      </a:lnTo>
                      <a:lnTo>
                        <a:pt x="103" y="110"/>
                      </a:lnTo>
                      <a:lnTo>
                        <a:pt x="91" y="134"/>
                      </a:lnTo>
                      <a:lnTo>
                        <a:pt x="38" y="134"/>
                      </a:lnTo>
                      <a:lnTo>
                        <a:pt x="27" y="146"/>
                      </a:lnTo>
                      <a:lnTo>
                        <a:pt x="0" y="103"/>
                      </a:lnTo>
                      <a:lnTo>
                        <a:pt x="123" y="0"/>
                      </a:lnTo>
                      <a:lnTo>
                        <a:pt x="183" y="23"/>
                      </a:lnTo>
                      <a:lnTo>
                        <a:pt x="170" y="4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5562720" y="2398680"/>
                <a:ext cx="335520" cy="677520"/>
                <a:chOff x="5562720" y="2398680"/>
                <a:chExt cx="335520" cy="677520"/>
              </a:xfrm>
            </p:grpSpPr>
            <p:grpSp>
              <p:nvGrpSpPr>
                <p:cNvPr id="98" name=""/>
                <p:cNvGrpSpPr/>
                <p:nvPr/>
              </p:nvGrpSpPr>
              <p:grpSpPr>
                <a:xfrm>
                  <a:off x="5562720" y="2495880"/>
                  <a:ext cx="176400" cy="404280"/>
                  <a:chOff x="5562720" y="2495880"/>
                  <a:chExt cx="176400" cy="40428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>
                    <a:off x="5562720" y="2637000"/>
                    <a:ext cx="74160" cy="121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0" bIns="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5574960" y="2742480"/>
                    <a:ext cx="99720" cy="157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5598000" y="2495880"/>
                    <a:ext cx="141120" cy="228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5586480" y="2650680"/>
                    <a:ext cx="5148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84">
                        <a:moveTo>
                          <a:pt x="25" y="0"/>
                        </a:moveTo>
                        <a:lnTo>
                          <a:pt x="0" y="16"/>
                        </a:lnTo>
                        <a:lnTo>
                          <a:pt x="0" y="66"/>
                        </a:lnTo>
                        <a:lnTo>
                          <a:pt x="9" y="83"/>
                        </a:lnTo>
                        <a:lnTo>
                          <a:pt x="44" y="66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" name=""/>
                <p:cNvGrpSpPr/>
                <p:nvPr/>
              </p:nvGrpSpPr>
              <p:grpSpPr>
                <a:xfrm>
                  <a:off x="5621040" y="2398680"/>
                  <a:ext cx="277200" cy="677520"/>
                  <a:chOff x="5621040" y="2398680"/>
                  <a:chExt cx="277200" cy="67752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>
                    <a:off x="5710680" y="2426760"/>
                    <a:ext cx="187560" cy="29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5621040" y="2637360"/>
                    <a:ext cx="97560" cy="155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5642640" y="2742840"/>
                    <a:ext cx="14472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5687640" y="2847960"/>
                    <a:ext cx="14364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5699160" y="2571480"/>
                    <a:ext cx="12636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813280" y="2398680"/>
                    <a:ext cx="74520" cy="118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5740560" y="2530800"/>
                    <a:ext cx="9072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67">
                        <a:moveTo>
                          <a:pt x="0" y="18"/>
                        </a:moveTo>
                        <a:lnTo>
                          <a:pt x="9" y="48"/>
                        </a:lnTo>
                        <a:lnTo>
                          <a:pt x="78" y="66"/>
                        </a:lnTo>
                        <a:lnTo>
                          <a:pt x="78" y="25"/>
                        </a:lnTo>
                        <a:lnTo>
                          <a:pt x="5" y="0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5649840" y="2711160"/>
                    <a:ext cx="104400" cy="20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38">
                        <a:moveTo>
                          <a:pt x="55" y="0"/>
                        </a:moveTo>
                        <a:lnTo>
                          <a:pt x="0" y="34"/>
                        </a:lnTo>
                        <a:lnTo>
                          <a:pt x="23" y="61"/>
                        </a:lnTo>
                        <a:lnTo>
                          <a:pt x="26" y="128"/>
                        </a:lnTo>
                        <a:lnTo>
                          <a:pt x="39" y="137"/>
                        </a:lnTo>
                        <a:lnTo>
                          <a:pt x="86" y="94"/>
                        </a:lnTo>
                        <a:lnTo>
                          <a:pt x="90" y="13"/>
                        </a:lnTo>
                        <a:lnTo>
                          <a:pt x="5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5805000" y="2470320"/>
                  <a:ext cx="53640" cy="96480"/>
                </a:xfrm>
                <a:custGeom>
                  <a:avLst/>
                  <a:gdLst/>
                  <a:ahLst/>
                  <a:rect l="l" t="t" r="r" b="b"/>
                  <a:pathLst>
                    <a:path w="47" h="64">
                      <a:moveTo>
                        <a:pt x="0" y="34"/>
                      </a:moveTo>
                      <a:lnTo>
                        <a:pt x="19" y="0"/>
                      </a:lnTo>
                      <a:lnTo>
                        <a:pt x="46" y="34"/>
                      </a:lnTo>
                      <a:lnTo>
                        <a:pt x="24" y="63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5734080" y="2286000"/>
                <a:ext cx="997200" cy="1142640"/>
                <a:chOff x="5734080" y="2286000"/>
                <a:chExt cx="997200" cy="11426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048000" y="2320200"/>
                  <a:ext cx="233640" cy="368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6250680" y="2286000"/>
                  <a:ext cx="187200" cy="2977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431040" y="2601720"/>
                  <a:ext cx="300240" cy="474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845320" y="2813760"/>
                  <a:ext cx="346320" cy="544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6341400" y="2884320"/>
                  <a:ext cx="254160" cy="401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755680" y="2920680"/>
                  <a:ext cx="187560" cy="296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734080" y="2672280"/>
                  <a:ext cx="186120" cy="2977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822280" y="2392560"/>
                  <a:ext cx="302400" cy="473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6094080" y="2953800"/>
                  <a:ext cx="300240" cy="474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476040" y="2427120"/>
                  <a:ext cx="233280" cy="366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406920" y="2286000"/>
                  <a:ext cx="211680" cy="33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811840" y="2374560"/>
                  <a:ext cx="867600" cy="908640"/>
                </a:xfrm>
                <a:custGeom>
                  <a:avLst/>
                  <a:gdLst/>
                  <a:ahLst/>
                  <a:rect l="l" t="t" r="r" b="b"/>
                  <a:pathLst>
                    <a:path w="754" h="604">
                      <a:moveTo>
                        <a:pt x="232" y="60"/>
                      </a:moveTo>
                      <a:lnTo>
                        <a:pt x="263" y="17"/>
                      </a:lnTo>
                      <a:lnTo>
                        <a:pt x="404" y="20"/>
                      </a:lnTo>
                      <a:lnTo>
                        <a:pt x="504" y="0"/>
                      </a:lnTo>
                      <a:lnTo>
                        <a:pt x="628" y="71"/>
                      </a:lnTo>
                      <a:lnTo>
                        <a:pt x="692" y="51"/>
                      </a:lnTo>
                      <a:lnTo>
                        <a:pt x="725" y="60"/>
                      </a:lnTo>
                      <a:lnTo>
                        <a:pt x="733" y="240"/>
                      </a:lnTo>
                      <a:lnTo>
                        <a:pt x="753" y="267"/>
                      </a:lnTo>
                      <a:lnTo>
                        <a:pt x="695" y="406"/>
                      </a:lnTo>
                      <a:lnTo>
                        <a:pt x="631" y="312"/>
                      </a:lnTo>
                      <a:lnTo>
                        <a:pt x="613" y="360"/>
                      </a:lnTo>
                      <a:lnTo>
                        <a:pt x="525" y="551"/>
                      </a:lnTo>
                      <a:lnTo>
                        <a:pt x="227" y="603"/>
                      </a:lnTo>
                      <a:lnTo>
                        <a:pt x="72" y="565"/>
                      </a:lnTo>
                      <a:lnTo>
                        <a:pt x="23" y="447"/>
                      </a:lnTo>
                      <a:lnTo>
                        <a:pt x="23" y="327"/>
                      </a:lnTo>
                      <a:lnTo>
                        <a:pt x="0" y="224"/>
                      </a:lnTo>
                      <a:lnTo>
                        <a:pt x="232" y="6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6" name=""/>
            <p:cNvSpPr/>
            <p:nvPr/>
          </p:nvSpPr>
          <p:spPr>
            <a:xfrm>
              <a:off x="5900760" y="2828880"/>
              <a:ext cx="183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257800" y="2209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010280" y="2895480"/>
          <a:ext cx="228600" cy="533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10280" y="289548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6705720" y="3124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9280" y="76212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Operator’s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705720" y="91440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533520"/>
            <a:ext cx="16002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obile operator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Home pag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23880" y="762120"/>
            <a:ext cx="124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Mobile operator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781680" y="13712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00720" y="114300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artner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72480" y="635040"/>
            <a:ext cx="2171520" cy="1104840"/>
          </a:xfrm>
          <a:custGeom>
            <a:avLst/>
            <a:gdLst/>
            <a:ahLst/>
            <a:rect l="l" t="t" r="r" b="b"/>
            <a:pathLst>
              <a:path w="1368" h="696">
                <a:moveTo>
                  <a:pt x="888" y="32"/>
                </a:moveTo>
                <a:cubicBezTo>
                  <a:pt x="696" y="32"/>
                  <a:pt x="240" y="16"/>
                  <a:pt x="120" y="80"/>
                </a:cubicBezTo>
                <a:cubicBezTo>
                  <a:pt x="0" y="144"/>
                  <a:pt x="128" y="320"/>
                  <a:pt x="168" y="416"/>
                </a:cubicBezTo>
                <a:cubicBezTo>
                  <a:pt x="208" y="512"/>
                  <a:pt x="224" y="616"/>
                  <a:pt x="360" y="656"/>
                </a:cubicBezTo>
                <a:cubicBezTo>
                  <a:pt x="496" y="696"/>
                  <a:pt x="824" y="680"/>
                  <a:pt x="984" y="656"/>
                </a:cubicBezTo>
                <a:cubicBezTo>
                  <a:pt x="1144" y="632"/>
                  <a:pt x="1272" y="608"/>
                  <a:pt x="1320" y="512"/>
                </a:cubicBezTo>
                <a:cubicBezTo>
                  <a:pt x="1368" y="416"/>
                  <a:pt x="1352" y="160"/>
                  <a:pt x="1272" y="80"/>
                </a:cubicBezTo>
                <a:cubicBezTo>
                  <a:pt x="1192" y="0"/>
                  <a:pt x="1080" y="32"/>
                  <a:pt x="888" y="3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99480" y="228600"/>
            <a:ext cx="195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Operator’s service pa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60760" y="34290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hird-par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41800" y="2209680"/>
            <a:ext cx="673200" cy="1600200"/>
          </a:xfrm>
          <a:custGeom>
            <a:avLst/>
            <a:gdLst/>
            <a:ahLst/>
            <a:rect l="l" t="t" r="r" b="b"/>
            <a:pathLst>
              <a:path w="1096" h="1200">
                <a:moveTo>
                  <a:pt x="88" y="0"/>
                </a:moveTo>
                <a:cubicBezTo>
                  <a:pt x="44" y="200"/>
                  <a:pt x="0" y="400"/>
                  <a:pt x="88" y="576"/>
                </a:cubicBezTo>
                <a:cubicBezTo>
                  <a:pt x="176" y="752"/>
                  <a:pt x="448" y="952"/>
                  <a:pt x="616" y="1056"/>
                </a:cubicBezTo>
                <a:cubicBezTo>
                  <a:pt x="784" y="1160"/>
                  <a:pt x="940" y="1180"/>
                  <a:pt x="1096" y="1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715000" y="3581280"/>
          <a:ext cx="228600" cy="533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15000" y="358128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337000" y="4038480"/>
            <a:ext cx="104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mpetitor’s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17760" y="38862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hird-par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43600" y="3886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91120" y="4191120"/>
            <a:ext cx="152280" cy="609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396252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43400" y="41911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70160" y="5867280"/>
            <a:ext cx="104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mpetitor’s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7760" y="556272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hird-par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5791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24280" y="5715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86000" y="5410080"/>
          <a:ext cx="228600" cy="533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86000" y="541008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222200" y="5486400"/>
            <a:ext cx="104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mpetitor’s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1720" y="609588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hird-par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35760" y="1371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16640" y="2895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7320" y="426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5040" y="5105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51814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68320" y="5638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2000" y="36576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4267080"/>
            <a:ext cx="16002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mpetitor’s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Home pag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4648320"/>
            <a:ext cx="16002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mpetitor’s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Home pag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981080" y="4267080"/>
          <a:ext cx="533520" cy="914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981080" y="4267080"/>
                    <a:ext cx="533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191120" y="5181480"/>
          <a:ext cx="533160" cy="914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191120" y="5181480"/>
                    <a:ext cx="53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7623000" y="2895480"/>
            <a:ext cx="104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mpetitor’s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953840" y="2133720"/>
            <a:ext cx="110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hird-party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81680" y="1828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48006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934320" y="1752480"/>
            <a:ext cx="913680" cy="685800"/>
            <a:chOff x="6934320" y="1752480"/>
            <a:chExt cx="913680" cy="685800"/>
          </a:xfrm>
        </p:grpSpPr>
        <p:grpSp>
          <p:nvGrpSpPr>
            <p:cNvPr id="176" name=""/>
            <p:cNvGrpSpPr/>
            <p:nvPr/>
          </p:nvGrpSpPr>
          <p:grpSpPr>
            <a:xfrm>
              <a:off x="6934320" y="1752480"/>
              <a:ext cx="913680" cy="685800"/>
              <a:chOff x="6934320" y="1752480"/>
              <a:chExt cx="913680" cy="68580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7472160" y="1816200"/>
                <a:ext cx="375840" cy="589320"/>
                <a:chOff x="7472160" y="1816200"/>
                <a:chExt cx="375840" cy="58932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7618680" y="1816200"/>
                  <a:ext cx="229320" cy="473400"/>
                  <a:chOff x="7618680" y="1816200"/>
                  <a:chExt cx="229320" cy="473400"/>
                </a:xfrm>
              </p:grpSpPr>
              <p:grpSp>
                <p:nvGrpSpPr>
                  <p:cNvPr id="179" name=""/>
                  <p:cNvGrpSpPr/>
                  <p:nvPr/>
                </p:nvGrpSpPr>
                <p:grpSpPr>
                  <a:xfrm>
                    <a:off x="7678440" y="1878120"/>
                    <a:ext cx="169560" cy="346320"/>
                    <a:chOff x="7678440" y="1878120"/>
                    <a:chExt cx="169560" cy="346320"/>
                  </a:xfrm>
                </p:grpSpPr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7678440" y="1878120"/>
                      <a:ext cx="169560" cy="346320"/>
                      <a:chOff x="7678440" y="1878120"/>
                      <a:chExt cx="169560" cy="346320"/>
                    </a:xfrm>
                  </p:grpSpPr>
                  <p:grpSp>
                    <p:nvGrpSpPr>
                      <p:cNvPr id="181" name=""/>
                      <p:cNvGrpSpPr/>
                      <p:nvPr/>
                    </p:nvGrpSpPr>
                    <p:grpSpPr>
                      <a:xfrm>
                        <a:off x="7722720" y="1899720"/>
                        <a:ext cx="125280" cy="282960"/>
                        <a:chOff x="7722720" y="1899720"/>
                        <a:chExt cx="125280" cy="282960"/>
                      </a:xfrm>
                    </p:grpSpPr>
                    <p:grpSp>
                      <p:nvGrpSpPr>
                        <p:cNvPr id="182" name=""/>
                        <p:cNvGrpSpPr/>
                        <p:nvPr/>
                      </p:nvGrpSpPr>
                      <p:grpSpPr>
                        <a:xfrm>
                          <a:off x="7737840" y="1899720"/>
                          <a:ext cx="110160" cy="282960"/>
                          <a:chOff x="7737840" y="1899720"/>
                          <a:chExt cx="110160" cy="282960"/>
                        </a:xfrm>
                      </p:grpSpPr>
                      <p:sp>
                        <p:nvSpPr>
                          <p:cNvPr id="183" name=""/>
                          <p:cNvSpPr/>
                          <p:nvPr/>
                        </p:nvSpPr>
                        <p:spPr>
                          <a:xfrm>
                            <a:off x="7797600" y="2068560"/>
                            <a:ext cx="50400" cy="720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320" bIns="43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4" name=""/>
                          <p:cNvSpPr/>
                          <p:nvPr/>
                        </p:nvSpPr>
                        <p:spPr>
                          <a:xfrm>
                            <a:off x="7752240" y="2089080"/>
                            <a:ext cx="64080" cy="936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9440" bIns="19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5" name=""/>
                          <p:cNvSpPr/>
                          <p:nvPr/>
                        </p:nvSpPr>
                        <p:spPr>
                          <a:xfrm>
                            <a:off x="7782120" y="1962720"/>
                            <a:ext cx="51120" cy="727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5040" bIns="50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6" name=""/>
                          <p:cNvSpPr/>
                          <p:nvPr/>
                        </p:nvSpPr>
                        <p:spPr>
                          <a:xfrm>
                            <a:off x="7737840" y="1899720"/>
                            <a:ext cx="65160" cy="936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9440" bIns="19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" name=""/>
                          <p:cNvSpPr/>
                          <p:nvPr/>
                        </p:nvSpPr>
                        <p:spPr>
                          <a:xfrm>
                            <a:off x="7782840" y="1962720"/>
                            <a:ext cx="45000" cy="162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9" h="180">
                                <a:moveTo>
                                  <a:pt x="58" y="176"/>
                                </a:moveTo>
                                <a:lnTo>
                                  <a:pt x="32" y="179"/>
                                </a:lnTo>
                                <a:lnTo>
                                  <a:pt x="0" y="0"/>
                                </a:lnTo>
                                <a:lnTo>
                                  <a:pt x="36" y="13"/>
                                </a:lnTo>
                                <a:lnTo>
                                  <a:pt x="37" y="101"/>
                                </a:lnTo>
                                <a:lnTo>
                                  <a:pt x="58" y="176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>
                          <a:off x="7722720" y="1983600"/>
                          <a:ext cx="95040" cy="13716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>
                          <a:off x="7722720" y="2068560"/>
                          <a:ext cx="65160" cy="946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0520" bIns="20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7743240" y="1942920"/>
                          <a:ext cx="48960" cy="175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4" h="195">
                              <a:moveTo>
                                <a:pt x="57" y="33"/>
                              </a:moveTo>
                              <a:lnTo>
                                <a:pt x="50" y="73"/>
                              </a:lnTo>
                              <a:lnTo>
                                <a:pt x="63" y="166"/>
                              </a:lnTo>
                              <a:lnTo>
                                <a:pt x="38" y="194"/>
                              </a:lnTo>
                              <a:lnTo>
                                <a:pt x="0" y="81"/>
                              </a:lnTo>
                              <a:lnTo>
                                <a:pt x="30" y="0"/>
                              </a:lnTo>
                              <a:lnTo>
                                <a:pt x="57" y="33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1" name=""/>
                      <p:cNvSpPr/>
                      <p:nvPr/>
                    </p:nvSpPr>
                    <p:spPr>
                      <a:xfrm>
                        <a:off x="7722720" y="2152440"/>
                        <a:ext cx="49680" cy="720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" bIns="43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" name=""/>
                      <p:cNvSpPr/>
                      <p:nvPr/>
                    </p:nvSpPr>
                    <p:spPr>
                      <a:xfrm>
                        <a:off x="7678440" y="1878120"/>
                        <a:ext cx="65880" cy="946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520" bIns="20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3" name=""/>
                      <p:cNvSpPr/>
                      <p:nvPr/>
                    </p:nvSpPr>
                    <p:spPr>
                      <a:xfrm>
                        <a:off x="7738920" y="2134440"/>
                        <a:ext cx="34560" cy="31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35">
                            <a:moveTo>
                              <a:pt x="44" y="21"/>
                            </a:moveTo>
                            <a:lnTo>
                              <a:pt x="30" y="34"/>
                            </a:lnTo>
                            <a:lnTo>
                              <a:pt x="0" y="17"/>
                            </a:lnTo>
                            <a:lnTo>
                              <a:pt x="30" y="0"/>
                            </a:lnTo>
                            <a:lnTo>
                              <a:pt x="44" y="2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480" bIns="-15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7732800" y="1924920"/>
                      <a:ext cx="19080" cy="5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58">
                          <a:moveTo>
                            <a:pt x="12" y="0"/>
                          </a:moveTo>
                          <a:lnTo>
                            <a:pt x="24" y="1"/>
                          </a:lnTo>
                          <a:lnTo>
                            <a:pt x="19" y="57"/>
                          </a:lnTo>
                          <a:lnTo>
                            <a:pt x="0" y="4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7618680" y="1816200"/>
                    <a:ext cx="154080" cy="431280"/>
                    <a:chOff x="7618680" y="1816200"/>
                    <a:chExt cx="154080" cy="43128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7632360" y="2068920"/>
                      <a:ext cx="126000" cy="178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7647840" y="1941480"/>
                      <a:ext cx="124920" cy="179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7618680" y="1816200"/>
                      <a:ext cx="95040" cy="136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7678440" y="1900080"/>
                      <a:ext cx="49680" cy="72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7647840" y="1883880"/>
                      <a:ext cx="84960" cy="15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75">
                          <a:moveTo>
                            <a:pt x="77" y="7"/>
                          </a:moveTo>
                          <a:lnTo>
                            <a:pt x="76" y="27"/>
                          </a:lnTo>
                          <a:lnTo>
                            <a:pt x="102" y="66"/>
                          </a:lnTo>
                          <a:lnTo>
                            <a:pt x="110" y="70"/>
                          </a:lnTo>
                          <a:lnTo>
                            <a:pt x="71" y="174"/>
                          </a:lnTo>
                          <a:lnTo>
                            <a:pt x="0" y="0"/>
                          </a:lnTo>
                          <a:lnTo>
                            <a:pt x="77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7689960" y="2103120"/>
                      <a:ext cx="54360" cy="4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47">
                          <a:moveTo>
                            <a:pt x="62" y="7"/>
                          </a:moveTo>
                          <a:lnTo>
                            <a:pt x="70" y="21"/>
                          </a:lnTo>
                          <a:lnTo>
                            <a:pt x="0" y="46"/>
                          </a:lnTo>
                          <a:lnTo>
                            <a:pt x="2" y="0"/>
                          </a:lnTo>
                          <a:lnTo>
                            <a:pt x="62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2" name=""/>
                  <p:cNvSpPr/>
                  <p:nvPr/>
                </p:nvSpPr>
                <p:spPr>
                  <a:xfrm>
                    <a:off x="7618680" y="2196000"/>
                    <a:ext cx="65160" cy="93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7664760" y="2185200"/>
                    <a:ext cx="349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6">
                        <a:moveTo>
                          <a:pt x="18" y="55"/>
                        </a:moveTo>
                        <a:lnTo>
                          <a:pt x="45" y="36"/>
                        </a:lnTo>
                        <a:lnTo>
                          <a:pt x="14" y="0"/>
                        </a:lnTo>
                        <a:lnTo>
                          <a:pt x="0" y="20"/>
                        </a:lnTo>
                        <a:lnTo>
                          <a:pt x="18" y="5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4" name=""/>
                <p:cNvSpPr/>
                <p:nvPr/>
              </p:nvSpPr>
              <p:spPr>
                <a:xfrm>
                  <a:off x="7472160" y="2291040"/>
                  <a:ext cx="80280" cy="1144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543440" y="2291040"/>
                  <a:ext cx="65880" cy="94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584840" y="2257200"/>
                  <a:ext cx="65160" cy="92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524360" y="2240280"/>
                  <a:ext cx="141120" cy="132480"/>
                </a:xfrm>
                <a:custGeom>
                  <a:avLst/>
                  <a:gdLst/>
                  <a:ahLst/>
                  <a:rect l="l" t="t" r="r" b="b"/>
                  <a:pathLst>
                    <a:path w="184" h="147">
                      <a:moveTo>
                        <a:pt x="170" y="42"/>
                      </a:moveTo>
                      <a:lnTo>
                        <a:pt x="152" y="52"/>
                      </a:lnTo>
                      <a:lnTo>
                        <a:pt x="103" y="110"/>
                      </a:lnTo>
                      <a:lnTo>
                        <a:pt x="91" y="134"/>
                      </a:lnTo>
                      <a:lnTo>
                        <a:pt x="38" y="134"/>
                      </a:lnTo>
                      <a:lnTo>
                        <a:pt x="27" y="146"/>
                      </a:lnTo>
                      <a:lnTo>
                        <a:pt x="0" y="103"/>
                      </a:lnTo>
                      <a:lnTo>
                        <a:pt x="123" y="0"/>
                      </a:lnTo>
                      <a:lnTo>
                        <a:pt x="183" y="23"/>
                      </a:lnTo>
                      <a:lnTo>
                        <a:pt x="170" y="4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6934320" y="1820160"/>
                <a:ext cx="223920" cy="406440"/>
                <a:chOff x="6934320" y="1820160"/>
                <a:chExt cx="223920" cy="406440"/>
              </a:xfrm>
            </p:grpSpPr>
            <p:grpSp>
              <p:nvGrpSpPr>
                <p:cNvPr id="209" name=""/>
                <p:cNvGrpSpPr/>
                <p:nvPr/>
              </p:nvGrpSpPr>
              <p:grpSpPr>
                <a:xfrm>
                  <a:off x="6934320" y="1878480"/>
                  <a:ext cx="117720" cy="242640"/>
                  <a:chOff x="6934320" y="1878480"/>
                  <a:chExt cx="117720" cy="2426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6934320" y="1963080"/>
                    <a:ext cx="49680" cy="72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6942600" y="2026440"/>
                    <a:ext cx="66600" cy="9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520" bIns="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957720" y="1878480"/>
                    <a:ext cx="94320" cy="137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950160" y="1971360"/>
                    <a:ext cx="3456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84">
                        <a:moveTo>
                          <a:pt x="25" y="0"/>
                        </a:moveTo>
                        <a:lnTo>
                          <a:pt x="0" y="16"/>
                        </a:lnTo>
                        <a:lnTo>
                          <a:pt x="0" y="66"/>
                        </a:lnTo>
                        <a:lnTo>
                          <a:pt x="9" y="83"/>
                        </a:lnTo>
                        <a:lnTo>
                          <a:pt x="44" y="66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" name=""/>
                <p:cNvGrpSpPr/>
                <p:nvPr/>
              </p:nvGrpSpPr>
              <p:grpSpPr>
                <a:xfrm>
                  <a:off x="6973200" y="1820160"/>
                  <a:ext cx="185040" cy="406440"/>
                  <a:chOff x="6973200" y="1820160"/>
                  <a:chExt cx="185040" cy="40644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>
                    <a:off x="7032960" y="1837080"/>
                    <a:ext cx="125280" cy="178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6973200" y="1963440"/>
                    <a:ext cx="65160" cy="93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6987600" y="2026800"/>
                    <a:ext cx="96840" cy="13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7017480" y="2089800"/>
                    <a:ext cx="95760" cy="13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7025400" y="1923840"/>
                    <a:ext cx="8424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7101360" y="1820160"/>
                    <a:ext cx="49680" cy="70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7053120" y="1899360"/>
                    <a:ext cx="6048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67">
                        <a:moveTo>
                          <a:pt x="0" y="18"/>
                        </a:moveTo>
                        <a:lnTo>
                          <a:pt x="9" y="48"/>
                        </a:lnTo>
                        <a:lnTo>
                          <a:pt x="78" y="66"/>
                        </a:lnTo>
                        <a:lnTo>
                          <a:pt x="78" y="25"/>
                        </a:lnTo>
                        <a:lnTo>
                          <a:pt x="5" y="0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992280" y="2007720"/>
                    <a:ext cx="69840" cy="12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38">
                        <a:moveTo>
                          <a:pt x="55" y="0"/>
                        </a:moveTo>
                        <a:lnTo>
                          <a:pt x="0" y="34"/>
                        </a:lnTo>
                        <a:lnTo>
                          <a:pt x="23" y="61"/>
                        </a:lnTo>
                        <a:lnTo>
                          <a:pt x="26" y="128"/>
                        </a:lnTo>
                        <a:lnTo>
                          <a:pt x="39" y="137"/>
                        </a:lnTo>
                        <a:lnTo>
                          <a:pt x="86" y="94"/>
                        </a:lnTo>
                        <a:lnTo>
                          <a:pt x="90" y="13"/>
                        </a:lnTo>
                        <a:lnTo>
                          <a:pt x="5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7095960" y="1863000"/>
                  <a:ext cx="36000" cy="57600"/>
                </a:xfrm>
                <a:custGeom>
                  <a:avLst/>
                  <a:gdLst/>
                  <a:ahLst/>
                  <a:rect l="l" t="t" r="r" b="b"/>
                  <a:pathLst>
                    <a:path w="47" h="64">
                      <a:moveTo>
                        <a:pt x="0" y="34"/>
                      </a:moveTo>
                      <a:lnTo>
                        <a:pt x="19" y="0"/>
                      </a:lnTo>
                      <a:lnTo>
                        <a:pt x="46" y="34"/>
                      </a:lnTo>
                      <a:lnTo>
                        <a:pt x="24" y="63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7048440" y="1752480"/>
                <a:ext cx="664920" cy="685800"/>
                <a:chOff x="7048440" y="1752480"/>
                <a:chExt cx="664920" cy="6858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7257600" y="1773000"/>
                  <a:ext cx="155880" cy="221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392600" y="1752480"/>
                  <a:ext cx="124560" cy="178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513200" y="1941840"/>
                  <a:ext cx="200160" cy="285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122600" y="2069280"/>
                  <a:ext cx="230760" cy="3265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453440" y="2111400"/>
                  <a:ext cx="169200" cy="240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062840" y="2133360"/>
                  <a:ext cx="124920" cy="177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048440" y="1984320"/>
                  <a:ext cx="124200" cy="178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107120" y="1816200"/>
                  <a:ext cx="201600" cy="284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288200" y="2153160"/>
                  <a:ext cx="200160" cy="285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543080" y="1837080"/>
                  <a:ext cx="155520" cy="219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497000" y="1752480"/>
                  <a:ext cx="141120" cy="1994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100280" y="1805400"/>
                  <a:ext cx="578160" cy="545040"/>
                </a:xfrm>
                <a:custGeom>
                  <a:avLst/>
                  <a:gdLst/>
                  <a:ahLst/>
                  <a:rect l="l" t="t" r="r" b="b"/>
                  <a:pathLst>
                    <a:path w="754" h="604">
                      <a:moveTo>
                        <a:pt x="232" y="60"/>
                      </a:moveTo>
                      <a:lnTo>
                        <a:pt x="263" y="17"/>
                      </a:lnTo>
                      <a:lnTo>
                        <a:pt x="404" y="20"/>
                      </a:lnTo>
                      <a:lnTo>
                        <a:pt x="504" y="0"/>
                      </a:lnTo>
                      <a:lnTo>
                        <a:pt x="628" y="71"/>
                      </a:lnTo>
                      <a:lnTo>
                        <a:pt x="692" y="51"/>
                      </a:lnTo>
                      <a:lnTo>
                        <a:pt x="725" y="60"/>
                      </a:lnTo>
                      <a:lnTo>
                        <a:pt x="733" y="240"/>
                      </a:lnTo>
                      <a:lnTo>
                        <a:pt x="753" y="267"/>
                      </a:lnTo>
                      <a:lnTo>
                        <a:pt x="695" y="406"/>
                      </a:lnTo>
                      <a:lnTo>
                        <a:pt x="631" y="312"/>
                      </a:lnTo>
                      <a:lnTo>
                        <a:pt x="613" y="360"/>
                      </a:lnTo>
                      <a:lnTo>
                        <a:pt x="525" y="551"/>
                      </a:lnTo>
                      <a:lnTo>
                        <a:pt x="227" y="603"/>
                      </a:lnTo>
                      <a:lnTo>
                        <a:pt x="72" y="565"/>
                      </a:lnTo>
                      <a:lnTo>
                        <a:pt x="23" y="447"/>
                      </a:lnTo>
                      <a:lnTo>
                        <a:pt x="23" y="327"/>
                      </a:lnTo>
                      <a:lnTo>
                        <a:pt x="0" y="224"/>
                      </a:lnTo>
                      <a:lnTo>
                        <a:pt x="232" y="6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7" name=""/>
            <p:cNvSpPr/>
            <p:nvPr/>
          </p:nvSpPr>
          <p:spPr>
            <a:xfrm>
              <a:off x="7159680" y="2078280"/>
              <a:ext cx="18396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7012800" y="190512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9800" y="274320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772400" y="220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7040" y="434340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Fixed telecom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00400" y="3200400"/>
            <a:ext cx="1447920" cy="838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52680" y="28954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789280" y="3124080"/>
            <a:ext cx="234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Fixed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elecom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Mobile recommendations 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15:49:06Z</dcterms:created>
  <dc:creator>ART</dc:creator>
  <dc:description/>
  <dc:language>en-US</dc:language>
  <cp:lastModifiedBy>Kimberly Y. De Haan</cp:lastModifiedBy>
  <cp:lastPrinted>2000-11-09T13:38:05Z</cp:lastPrinted>
  <dcterms:modified xsi:type="dcterms:W3CDTF">2000-11-21T10:58:33Z</dcterms:modified>
  <cp:revision>22</cp:revision>
  <dc:subject/>
  <dc:title>Aucun titre de diapositive</dc:title>
</cp:coreProperties>
</file>