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ACA-DA10-440A-A8E8-EA3EB312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FE5-DE71-4FA2-8A25-9C327053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18A-D360-4EC8-9FCB-EE2AEC20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63D-2109-4634-AE70-6CCFFE85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91A-2D8B-4030-B86E-1EB221D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BAB-9CF1-4A83-9CC9-DFDBB514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4DD-1942-4244-8351-13C6FE3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DC2-DF9C-4A5F-B8D5-5D138732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6E6-A690-4263-8FAB-A5E3F449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1D-C8B6-4B77-9218-E3395F8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E80-F6AF-430D-BE27-E3A1252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1B1-159D-4B1E-BCE4-90A020D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27C7-4C05-4F5D-A794-4EB058FDC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286000"/>
            <a:ext cx="23623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71240" y="31240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320"/>
            <a:ext cx="426708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ppendi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WAP architectures on GPRS (exa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133720"/>
            <a:ext cx="2209680" cy="152280"/>
          </a:xfrm>
          <a:prstGeom prst="leftRightArrow">
            <a:avLst>
              <a:gd name="adj1" fmla="val 50000"/>
              <a:gd name="adj2" fmla="val 28886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4120" y="1752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819520"/>
            <a:ext cx="9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P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77120" y="518148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5181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59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65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9640" y="762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perato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bile opera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2800" y="762120"/>
            <a:ext cx="85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0720" y="11430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rtn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640" y="2286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760" y="3429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1800" y="2209680"/>
            <a:ext cx="2044800" cy="175284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86600" y="365760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3657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1480" y="38606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6720" y="4114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7440" y="56894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5840" y="54864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525780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2578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03840" y="538488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3640" y="617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892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172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95280" y="4876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960" y="571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4038480"/>
          <a:ext cx="53316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4038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57800" y="4724280"/>
          <a:ext cx="5335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7242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619040" y="287028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3840" y="213372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6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7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1676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9280" y="320040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lec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09680" y="4038480"/>
            <a:ext cx="1141560" cy="990720"/>
            <a:chOff x="2209680" y="4038480"/>
            <a:chExt cx="1141560" cy="990720"/>
          </a:xfrm>
        </p:grpSpPr>
        <p:grpSp>
          <p:nvGrpSpPr>
            <p:cNvPr id="237" name=""/>
            <p:cNvGrpSpPr/>
            <p:nvPr/>
          </p:nvGrpSpPr>
          <p:grpSpPr>
            <a:xfrm>
              <a:off x="2209680" y="4038480"/>
              <a:ext cx="1141560" cy="990720"/>
              <a:chOff x="2209680" y="4038480"/>
              <a:chExt cx="1141560" cy="990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881800" y="4131000"/>
                <a:ext cx="469440" cy="851040"/>
                <a:chOff x="2881800" y="4131000"/>
                <a:chExt cx="469440" cy="851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064680" y="4131000"/>
                  <a:ext cx="286560" cy="684360"/>
                  <a:chOff x="3064680" y="4131000"/>
                  <a:chExt cx="286560" cy="684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139200" y="4220640"/>
                    <a:ext cx="212040" cy="500400"/>
                    <a:chOff x="3139200" y="4220640"/>
                    <a:chExt cx="212040" cy="5004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3139200" y="4220640"/>
                      <a:ext cx="212040" cy="500400"/>
                      <a:chOff x="3139200" y="4220640"/>
                      <a:chExt cx="212040" cy="50040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3194640" y="4251960"/>
                        <a:ext cx="156600" cy="408960"/>
                        <a:chOff x="3194640" y="4251960"/>
                        <a:chExt cx="156600" cy="40896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3213720" y="4251960"/>
                          <a:ext cx="137520" cy="408960"/>
                          <a:chOff x="3213720" y="4251960"/>
                          <a:chExt cx="137520" cy="40896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88240" y="4495680"/>
                            <a:ext cx="63000" cy="10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000" bIns="27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31720" y="4525560"/>
                            <a:ext cx="8028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269160" y="4343040"/>
                            <a:ext cx="64080" cy="105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720" bIns="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213720" y="4251960"/>
                            <a:ext cx="8136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269880" y="4343040"/>
                            <a:ext cx="56160" cy="23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3194640" y="4372920"/>
                          <a:ext cx="118800" cy="198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3194640" y="4495680"/>
                          <a:ext cx="81360" cy="13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20200" y="4314600"/>
                          <a:ext cx="61200" cy="25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194640" y="4617000"/>
                        <a:ext cx="61920" cy="104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139200" y="4220640"/>
                        <a:ext cx="82080" cy="13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3214440" y="4591080"/>
                        <a:ext cx="432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206880" y="4288320"/>
                      <a:ext cx="237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064680" y="4131000"/>
                    <a:ext cx="192240" cy="622800"/>
                    <a:chOff x="3064680" y="4131000"/>
                    <a:chExt cx="192240" cy="622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081600" y="4496040"/>
                      <a:ext cx="156960" cy="25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101040" y="4312080"/>
                      <a:ext cx="15588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064680" y="4131000"/>
                      <a:ext cx="118440" cy="196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139200" y="4251960"/>
                      <a:ext cx="62280" cy="10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101040" y="4228560"/>
                      <a:ext cx="10584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153600" y="4545360"/>
                      <a:ext cx="6768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3064680" y="468000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21920" y="4664160"/>
                    <a:ext cx="43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2881800" y="4816800"/>
                  <a:ext cx="100440" cy="165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70720" y="4816800"/>
                  <a:ext cx="82080" cy="136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22560" y="4768200"/>
                  <a:ext cx="81360" cy="134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46960" y="4743720"/>
                  <a:ext cx="176040" cy="19152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209680" y="4136040"/>
                <a:ext cx="279360" cy="587520"/>
                <a:chOff x="2209680" y="4136040"/>
                <a:chExt cx="279360" cy="58752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2209680" y="4220280"/>
                  <a:ext cx="147600" cy="350280"/>
                  <a:chOff x="2209680" y="4220280"/>
                  <a:chExt cx="147600" cy="3502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209680" y="4342680"/>
                    <a:ext cx="61920" cy="10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220120" y="4434120"/>
                    <a:ext cx="835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239200" y="4220280"/>
                    <a:ext cx="11808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229480" y="4354560"/>
                    <a:ext cx="432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258280" y="4136040"/>
                  <a:ext cx="230760" cy="587520"/>
                  <a:chOff x="2258280" y="4136040"/>
                  <a:chExt cx="230760" cy="58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32800" y="4160520"/>
                    <a:ext cx="156240" cy="258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258280" y="434304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276280" y="4434480"/>
                    <a:ext cx="12096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313720" y="4525560"/>
                    <a:ext cx="11952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323440" y="4285800"/>
                    <a:ext cx="105480" cy="16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418480" y="4136040"/>
                    <a:ext cx="6228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0" y="4250520"/>
                    <a:ext cx="756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82400" y="4406760"/>
                    <a:ext cx="8712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2411640" y="419832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52240" y="4038480"/>
                <a:ext cx="831240" cy="990720"/>
                <a:chOff x="2352240" y="4038480"/>
                <a:chExt cx="831240" cy="990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13600" y="4068000"/>
                  <a:ext cx="194760" cy="31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82800" y="4038480"/>
                  <a:ext cx="15588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33280" y="431208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44760" y="4496040"/>
                  <a:ext cx="2887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8400" y="4557240"/>
                  <a:ext cx="211680" cy="34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70240" y="4588560"/>
                  <a:ext cx="156240" cy="256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52240" y="4373280"/>
                  <a:ext cx="15516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25680" y="4131000"/>
                  <a:ext cx="252000" cy="410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52120" y="461736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70720" y="4160880"/>
                  <a:ext cx="194400" cy="317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912760" y="4038480"/>
                  <a:ext cx="176400" cy="288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17040" y="4115160"/>
                  <a:ext cx="722880" cy="78732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2428200" y="4509000"/>
              <a:ext cx="185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440800" y="43434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971800" y="5257800"/>
          <a:ext cx="53352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52578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9880" y="5486400"/>
          <a:ext cx="2286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98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52480" y="5105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4952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4240" y="50036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0360" y="58672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5200" y="533412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 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Mobile recommendations November 200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Kimberly Y. De Haan</cp:lastModifiedBy>
  <cp:lastPrinted>2000-11-09T13:38:14Z</cp:lastPrinted>
  <dcterms:modified xsi:type="dcterms:W3CDTF">2000-11-21T10:59:17Z</dcterms:modified>
  <cp:revision>24</cp:revision>
  <dc:subject/>
  <dc:title>Aucun titre de diapositive</dc:title>
</cp:coreProperties>
</file>