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D45-9F21-4D95-B484-B3FDD5BE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AFB-B34E-4026-B31C-5AF4882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E24-D655-4F00-A05F-CC41BA3A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B8E-C2EF-4F03-83EE-0F674933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7CE-E398-45F0-B47A-D28BFDB6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D8C-296D-4A5D-AF7F-673EAE42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18D-7B84-4733-BFAF-54ACB935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EBF-63DE-4CD0-BE46-F5227D6F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E4C-AC5D-4AB8-99D3-D8143FCF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5CC-1F0E-470D-B0BB-C5DBEB5E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EB4-D4C9-465D-934D-34F42186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ED6-0A0C-48E8-98CB-12FE7DE2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20CF-51D9-4D17-8071-256034884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133720"/>
            <a:ext cx="20574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éseau 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828800"/>
          <a:ext cx="23508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2350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143000" y="1752480"/>
          <a:ext cx="73836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752480"/>
                    <a:ext cx="738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876920" y="129528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2952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191120" y="1447920"/>
            <a:ext cx="1522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5720" y="144792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3505320"/>
            <a:ext cx="15264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553080" y="1371600"/>
          <a:ext cx="2286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3716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343400" y="1600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33360" y="4114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505320" y="19807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76320"/>
            <a:ext cx="4267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nnex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Architectures WAP sur G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905120"/>
            <a:ext cx="1752480" cy="152280"/>
          </a:xfrm>
          <a:prstGeom prst="leftRightArrow">
            <a:avLst>
              <a:gd name="adj1" fmla="val 50000"/>
              <a:gd name="adj2" fmla="val 2291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480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7800" y="2819520"/>
            <a:ext cx="11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GSM 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410080" y="5486400"/>
          <a:ext cx="22860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548640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3623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62720" y="2286000"/>
            <a:ext cx="1369800" cy="1142640"/>
            <a:chOff x="5562720" y="2286000"/>
            <a:chExt cx="1369800" cy="1142640"/>
          </a:xfrm>
        </p:grpSpPr>
        <p:grpSp>
          <p:nvGrpSpPr>
            <p:cNvPr id="65" name=""/>
            <p:cNvGrpSpPr/>
            <p:nvPr/>
          </p:nvGrpSpPr>
          <p:grpSpPr>
            <a:xfrm>
              <a:off x="5562720" y="2286000"/>
              <a:ext cx="1369800" cy="1142640"/>
              <a:chOff x="5562720" y="2286000"/>
              <a:chExt cx="1369800" cy="114264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6369120" y="2392560"/>
                <a:ext cx="563400" cy="981720"/>
                <a:chOff x="6369120" y="2392560"/>
                <a:chExt cx="563400" cy="981720"/>
              </a:xfrm>
            </p:grpSpPr>
            <p:grpSp>
              <p:nvGrpSpPr>
                <p:cNvPr id="67" name=""/>
                <p:cNvGrpSpPr/>
                <p:nvPr/>
              </p:nvGrpSpPr>
              <p:grpSpPr>
                <a:xfrm>
                  <a:off x="6588720" y="2392560"/>
                  <a:ext cx="343800" cy="788760"/>
                  <a:chOff x="6588720" y="2392560"/>
                  <a:chExt cx="343800" cy="788760"/>
                </a:xfrm>
              </p:grpSpPr>
              <p:grpSp>
                <p:nvGrpSpPr>
                  <p:cNvPr id="68" name=""/>
                  <p:cNvGrpSpPr/>
                  <p:nvPr/>
                </p:nvGrpSpPr>
                <p:grpSpPr>
                  <a:xfrm>
                    <a:off x="6678360" y="2495880"/>
                    <a:ext cx="254160" cy="577080"/>
                    <a:chOff x="6678360" y="2495880"/>
                    <a:chExt cx="254160" cy="577080"/>
                  </a:xfrm>
                </p:grpSpPr>
                <p:grpSp>
                  <p:nvGrpSpPr>
                    <p:cNvPr id="69" name=""/>
                    <p:cNvGrpSpPr/>
                    <p:nvPr/>
                  </p:nvGrpSpPr>
                  <p:grpSpPr>
                    <a:xfrm>
                      <a:off x="6678360" y="2495880"/>
                      <a:ext cx="254160" cy="577080"/>
                      <a:chOff x="6678360" y="2495880"/>
                      <a:chExt cx="254160" cy="577080"/>
                    </a:xfrm>
                  </p:grpSpPr>
                  <p:grpSp>
                    <p:nvGrpSpPr>
                      <p:cNvPr id="70" name=""/>
                      <p:cNvGrpSpPr/>
                      <p:nvPr/>
                    </p:nvGrpSpPr>
                    <p:grpSpPr>
                      <a:xfrm>
                        <a:off x="6744960" y="2531880"/>
                        <a:ext cx="187560" cy="471600"/>
                        <a:chOff x="6744960" y="2531880"/>
                        <a:chExt cx="187560" cy="471600"/>
                      </a:xfrm>
                    </p:grpSpPr>
                    <p:grpSp>
                      <p:nvGrpSpPr>
                        <p:cNvPr id="71" name=""/>
                        <p:cNvGrpSpPr/>
                        <p:nvPr/>
                      </p:nvGrpSpPr>
                      <p:grpSpPr>
                        <a:xfrm>
                          <a:off x="6767640" y="2531880"/>
                          <a:ext cx="164880" cy="471600"/>
                          <a:chOff x="6767640" y="2531880"/>
                          <a:chExt cx="164880" cy="471600"/>
                        </a:xfrm>
                      </p:grpSpPr>
                      <p:sp>
                        <p:nvSpPr>
                          <p:cNvPr id="72" name=""/>
                          <p:cNvSpPr/>
                          <p:nvPr/>
                        </p:nvSpPr>
                        <p:spPr>
                          <a:xfrm>
                            <a:off x="6856920" y="2812680"/>
                            <a:ext cx="75600" cy="120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160" bIns="381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" name=""/>
                          <p:cNvSpPr/>
                          <p:nvPr/>
                        </p:nvSpPr>
                        <p:spPr>
                          <a:xfrm>
                            <a:off x="6789240" y="2847240"/>
                            <a:ext cx="9612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" name=""/>
                          <p:cNvSpPr/>
                          <p:nvPr/>
                        </p:nvSpPr>
                        <p:spPr>
                          <a:xfrm>
                            <a:off x="6834240" y="2637000"/>
                            <a:ext cx="76680" cy="1213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240" bIns="39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" name=""/>
                          <p:cNvSpPr/>
                          <p:nvPr/>
                        </p:nvSpPr>
                        <p:spPr>
                          <a:xfrm>
                            <a:off x="6767640" y="2531880"/>
                            <a:ext cx="97560" cy="15624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" name=""/>
                          <p:cNvSpPr/>
                          <p:nvPr/>
                        </p:nvSpPr>
                        <p:spPr>
                          <a:xfrm>
                            <a:off x="6835320" y="2637000"/>
                            <a:ext cx="67680" cy="270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6744960" y="2671560"/>
                          <a:ext cx="142200" cy="228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>
                          <a:off x="6744960" y="2812680"/>
                          <a:ext cx="97560" cy="157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>
                          <a:off x="6775920" y="2603880"/>
                          <a:ext cx="73440" cy="29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744960" y="2952720"/>
                        <a:ext cx="7452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6678360" y="2495880"/>
                        <a:ext cx="98640" cy="157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69080" y="2922840"/>
                        <a:ext cx="518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759720" y="2574000"/>
                      <a:ext cx="284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6588720" y="2392560"/>
                    <a:ext cx="230400" cy="718200"/>
                    <a:chOff x="6588720" y="2392560"/>
                    <a:chExt cx="230400" cy="71820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609240" y="2813400"/>
                      <a:ext cx="188640" cy="29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632280" y="2601360"/>
                      <a:ext cx="186840" cy="299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88720" y="2392560"/>
                      <a:ext cx="142200" cy="226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78000" y="2532240"/>
                      <a:ext cx="74520" cy="12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32280" y="2505240"/>
                      <a:ext cx="127080" cy="26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5280" y="2870280"/>
                      <a:ext cx="8136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>
                    <a:off x="6588720" y="302544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6657480" y="3007440"/>
                    <a:ext cx="525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6369120" y="3183480"/>
                  <a:ext cx="120600" cy="190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476040" y="3183480"/>
                  <a:ext cx="98640" cy="157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960" y="3127680"/>
                  <a:ext cx="97560" cy="1548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447240" y="3099240"/>
                  <a:ext cx="211320" cy="2206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5562720" y="2398680"/>
                <a:ext cx="335520" cy="677520"/>
                <a:chOff x="5562720" y="2398680"/>
                <a:chExt cx="335520" cy="67752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5562720" y="2495880"/>
                  <a:ext cx="176400" cy="404280"/>
                  <a:chOff x="5562720" y="2495880"/>
                  <a:chExt cx="176400" cy="4042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5562720" y="2637000"/>
                    <a:ext cx="74160" cy="121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574960" y="2742480"/>
                    <a:ext cx="99720" cy="157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598000" y="2495880"/>
                    <a:ext cx="141120" cy="228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586480" y="2650680"/>
                    <a:ext cx="514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5621040" y="2398680"/>
                  <a:ext cx="277200" cy="677520"/>
                  <a:chOff x="5621040" y="2398680"/>
                  <a:chExt cx="277200" cy="6775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5710680" y="2426760"/>
                    <a:ext cx="187560" cy="29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5621040" y="2637360"/>
                    <a:ext cx="97560" cy="15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5642640" y="2742840"/>
                    <a:ext cx="14472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5687640" y="2847960"/>
                    <a:ext cx="14364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5699160" y="2571480"/>
                    <a:ext cx="12636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813280" y="2398680"/>
                    <a:ext cx="74520" cy="11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740560" y="2530800"/>
                    <a:ext cx="9072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649840" y="2711160"/>
                    <a:ext cx="104400" cy="20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5805000" y="2470320"/>
                  <a:ext cx="53640" cy="9648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734080" y="2286000"/>
                <a:ext cx="997200" cy="1142640"/>
                <a:chOff x="5734080" y="2286000"/>
                <a:chExt cx="997200" cy="11426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048000" y="2320200"/>
                  <a:ext cx="233640" cy="368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250680" y="2286000"/>
                  <a:ext cx="18720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431040" y="260172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45320" y="2813760"/>
                  <a:ext cx="346320" cy="54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341400" y="2884320"/>
                  <a:ext cx="254160" cy="401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755680" y="2920680"/>
                  <a:ext cx="187560" cy="296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734080" y="2672280"/>
                  <a:ext cx="186120" cy="2977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822280" y="2392560"/>
                  <a:ext cx="302400" cy="473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094080" y="2953800"/>
                  <a:ext cx="300240" cy="474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76040" y="2427120"/>
                  <a:ext cx="233280" cy="366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920" y="2286000"/>
                  <a:ext cx="211680" cy="33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811840" y="2374560"/>
                  <a:ext cx="867600" cy="9086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5900760" y="2828880"/>
              <a:ext cx="183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257800" y="2209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010280" y="2895480"/>
          <a:ext cx="2286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10280" y="28954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7057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9640" y="76212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opér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705720" y="9144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335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 opérateur mo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23160" y="762120"/>
            <a:ext cx="82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ér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81680" y="1371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98200" y="1143000"/>
            <a:ext cx="194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en partenari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72480" y="635040"/>
            <a:ext cx="2171520" cy="1104840"/>
          </a:xfrm>
          <a:custGeom>
            <a:avLst/>
            <a:gdLst/>
            <a:ahLst/>
            <a:rect l="l" t="t" r="r" b="b"/>
            <a:pathLst>
              <a:path w="1368" h="696">
                <a:moveTo>
                  <a:pt x="888" y="32"/>
                </a:moveTo>
                <a:cubicBezTo>
                  <a:pt x="696" y="32"/>
                  <a:pt x="240" y="16"/>
                  <a:pt x="120" y="80"/>
                </a:cubicBezTo>
                <a:cubicBezTo>
                  <a:pt x="0" y="144"/>
                  <a:pt x="128" y="320"/>
                  <a:pt x="168" y="416"/>
                </a:cubicBezTo>
                <a:cubicBezTo>
                  <a:pt x="208" y="512"/>
                  <a:pt x="224" y="616"/>
                  <a:pt x="360" y="656"/>
                </a:cubicBezTo>
                <a:cubicBezTo>
                  <a:pt x="496" y="696"/>
                  <a:pt x="824" y="680"/>
                  <a:pt x="984" y="656"/>
                </a:cubicBezTo>
                <a:cubicBezTo>
                  <a:pt x="1144" y="632"/>
                  <a:pt x="1272" y="608"/>
                  <a:pt x="1320" y="512"/>
                </a:cubicBezTo>
                <a:cubicBezTo>
                  <a:pt x="1368" y="416"/>
                  <a:pt x="1352" y="160"/>
                  <a:pt x="1272" y="80"/>
                </a:cubicBezTo>
                <a:cubicBezTo>
                  <a:pt x="1192" y="0"/>
                  <a:pt x="1080" y="32"/>
                  <a:pt x="888" y="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41040" y="228600"/>
            <a:ext cx="146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ouquet de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pér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34290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41800" y="2209680"/>
            <a:ext cx="673200" cy="1600200"/>
          </a:xfrm>
          <a:custGeom>
            <a:avLst/>
            <a:gdLst/>
            <a:ahLst/>
            <a:rect l="l" t="t" r="r" b="b"/>
            <a:pathLst>
              <a:path w="1096" h="1200">
                <a:moveTo>
                  <a:pt x="88" y="0"/>
                </a:moveTo>
                <a:cubicBezTo>
                  <a:pt x="44" y="200"/>
                  <a:pt x="0" y="400"/>
                  <a:pt x="88" y="576"/>
                </a:cubicBezTo>
                <a:cubicBezTo>
                  <a:pt x="176" y="752"/>
                  <a:pt x="448" y="952"/>
                  <a:pt x="616" y="1056"/>
                </a:cubicBezTo>
                <a:cubicBezTo>
                  <a:pt x="784" y="1160"/>
                  <a:pt x="940" y="1180"/>
                  <a:pt x="1096" y="1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715000" y="3581280"/>
          <a:ext cx="228600" cy="533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35812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337000" y="403848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388620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3886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4191120"/>
            <a:ext cx="1522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9625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4191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70520" y="586728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56272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5791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0" y="5410080"/>
          <a:ext cx="228600" cy="533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0" y="5410080"/>
                    <a:ext cx="228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222200" y="548640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609588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35760" y="1371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6640" y="2895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7320" y="426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5040" y="5105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51814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8320" y="5638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2000" y="36576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426708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curr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4648320"/>
            <a:ext cx="16002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asserel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curr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(Page d’accuei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81080" y="4267080"/>
          <a:ext cx="533520" cy="914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981080" y="4267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91120" y="5181480"/>
          <a:ext cx="53316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91120" y="518148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623000" y="2895480"/>
            <a:ext cx="89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54920" y="213372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Services t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828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934320" y="1752480"/>
            <a:ext cx="913680" cy="685800"/>
            <a:chOff x="6934320" y="1752480"/>
            <a:chExt cx="913680" cy="685800"/>
          </a:xfrm>
        </p:grpSpPr>
        <p:grpSp>
          <p:nvGrpSpPr>
            <p:cNvPr id="176" name=""/>
            <p:cNvGrpSpPr/>
            <p:nvPr/>
          </p:nvGrpSpPr>
          <p:grpSpPr>
            <a:xfrm>
              <a:off x="6934320" y="1752480"/>
              <a:ext cx="913680" cy="685800"/>
              <a:chOff x="6934320" y="1752480"/>
              <a:chExt cx="913680" cy="6858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7472160" y="1816200"/>
                <a:ext cx="375840" cy="589320"/>
                <a:chOff x="7472160" y="1816200"/>
                <a:chExt cx="375840" cy="589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7618680" y="1816200"/>
                  <a:ext cx="229320" cy="473400"/>
                  <a:chOff x="7618680" y="1816200"/>
                  <a:chExt cx="229320" cy="47340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7678440" y="1878120"/>
                    <a:ext cx="169560" cy="346320"/>
                    <a:chOff x="7678440" y="1878120"/>
                    <a:chExt cx="169560" cy="346320"/>
                  </a:xfrm>
                </p:grpSpPr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7678440" y="1878120"/>
                      <a:ext cx="169560" cy="346320"/>
                      <a:chOff x="7678440" y="1878120"/>
                      <a:chExt cx="169560" cy="346320"/>
                    </a:xfrm>
                  </p:grpSpPr>
                  <p:grpSp>
                    <p:nvGrpSpPr>
                      <p:cNvPr id="181" name=""/>
                      <p:cNvGrpSpPr/>
                      <p:nvPr/>
                    </p:nvGrpSpPr>
                    <p:grpSpPr>
                      <a:xfrm>
                        <a:off x="7722720" y="1899720"/>
                        <a:ext cx="125280" cy="282960"/>
                        <a:chOff x="7722720" y="1899720"/>
                        <a:chExt cx="125280" cy="282960"/>
                      </a:xfrm>
                    </p:grpSpPr>
                    <p:grpSp>
                      <p:nvGrpSpPr>
                        <p:cNvPr id="182" name=""/>
                        <p:cNvGrpSpPr/>
                        <p:nvPr/>
                      </p:nvGrpSpPr>
                      <p:grpSpPr>
                        <a:xfrm>
                          <a:off x="7737840" y="1899720"/>
                          <a:ext cx="110160" cy="282960"/>
                          <a:chOff x="7737840" y="1899720"/>
                          <a:chExt cx="110160" cy="282960"/>
                        </a:xfrm>
                      </p:grpSpPr>
                      <p:sp>
                        <p:nvSpPr>
                          <p:cNvPr id="183" name=""/>
                          <p:cNvSpPr/>
                          <p:nvPr/>
                        </p:nvSpPr>
                        <p:spPr>
                          <a:xfrm>
                            <a:off x="7797600" y="2068560"/>
                            <a:ext cx="50400" cy="720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320" bIns="43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4" name=""/>
                          <p:cNvSpPr/>
                          <p:nvPr/>
                        </p:nvSpPr>
                        <p:spPr>
                          <a:xfrm>
                            <a:off x="7752240" y="2089080"/>
                            <a:ext cx="6408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7782120" y="1962720"/>
                            <a:ext cx="51120" cy="727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5040" bIns="50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7737840" y="1899720"/>
                            <a:ext cx="65160" cy="9360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9440" bIns="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7782840" y="1962720"/>
                            <a:ext cx="45000" cy="162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180">
                                <a:moveTo>
                                  <a:pt x="58" y="176"/>
                                </a:moveTo>
                                <a:lnTo>
                                  <a:pt x="32" y="179"/>
                                </a:lnTo>
                                <a:lnTo>
                                  <a:pt x="0" y="0"/>
                                </a:lnTo>
                                <a:lnTo>
                                  <a:pt x="36" y="13"/>
                                </a:lnTo>
                                <a:lnTo>
                                  <a:pt x="37" y="101"/>
                                </a:lnTo>
                                <a:lnTo>
                                  <a:pt x="58" y="176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7722720" y="1983600"/>
                          <a:ext cx="95040" cy="1371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>
                          <a:off x="7722720" y="2068560"/>
                          <a:ext cx="65160" cy="946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0520" bIns="20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7743240" y="1942920"/>
                          <a:ext cx="48960" cy="17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" h="195">
                              <a:moveTo>
                                <a:pt x="57" y="33"/>
                              </a:moveTo>
                              <a:lnTo>
                                <a:pt x="50" y="73"/>
                              </a:lnTo>
                              <a:lnTo>
                                <a:pt x="63" y="166"/>
                              </a:lnTo>
                              <a:lnTo>
                                <a:pt x="38" y="194"/>
                              </a:lnTo>
                              <a:lnTo>
                                <a:pt x="0" y="81"/>
                              </a:lnTo>
                              <a:lnTo>
                                <a:pt x="30" y="0"/>
                              </a:lnTo>
                              <a:lnTo>
                                <a:pt x="57" y="33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7722720" y="2152440"/>
                        <a:ext cx="49680" cy="72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" bIns="4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7678440" y="1878120"/>
                        <a:ext cx="65880" cy="946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520" bIns="20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7738920" y="2134440"/>
                        <a:ext cx="3456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35">
                            <a:moveTo>
                              <a:pt x="44" y="21"/>
                            </a:moveTo>
                            <a:lnTo>
                              <a:pt x="30" y="34"/>
                            </a:lnTo>
                            <a:lnTo>
                              <a:pt x="0" y="17"/>
                            </a:lnTo>
                            <a:lnTo>
                              <a:pt x="30" y="0"/>
                            </a:lnTo>
                            <a:lnTo>
                              <a:pt x="44" y="21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7732800" y="1924920"/>
                      <a:ext cx="1908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58">
                          <a:moveTo>
                            <a:pt x="12" y="0"/>
                          </a:moveTo>
                          <a:lnTo>
                            <a:pt x="24" y="1"/>
                          </a:lnTo>
                          <a:lnTo>
                            <a:pt x="19" y="57"/>
                          </a:lnTo>
                          <a:lnTo>
                            <a:pt x="0" y="4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7618680" y="1816200"/>
                    <a:ext cx="154080" cy="431280"/>
                    <a:chOff x="7618680" y="1816200"/>
                    <a:chExt cx="154080" cy="4312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7632360" y="2068920"/>
                      <a:ext cx="126000" cy="178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7647840" y="1941480"/>
                      <a:ext cx="124920" cy="179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7618680" y="1816200"/>
                      <a:ext cx="95040" cy="136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7678440" y="1900080"/>
                      <a:ext cx="49680" cy="72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" bIns="4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7647840" y="1883880"/>
                      <a:ext cx="84960" cy="15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75">
                          <a:moveTo>
                            <a:pt x="77" y="7"/>
                          </a:moveTo>
                          <a:lnTo>
                            <a:pt x="76" y="27"/>
                          </a:lnTo>
                          <a:lnTo>
                            <a:pt x="102" y="66"/>
                          </a:lnTo>
                          <a:lnTo>
                            <a:pt x="110" y="70"/>
                          </a:lnTo>
                          <a:lnTo>
                            <a:pt x="71" y="174"/>
                          </a:lnTo>
                          <a:lnTo>
                            <a:pt x="0" y="0"/>
                          </a:lnTo>
                          <a:lnTo>
                            <a:pt x="77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7689960" y="2103120"/>
                      <a:ext cx="5436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7">
                          <a:moveTo>
                            <a:pt x="62" y="7"/>
                          </a:moveTo>
                          <a:lnTo>
                            <a:pt x="70" y="21"/>
                          </a:lnTo>
                          <a:lnTo>
                            <a:pt x="0" y="46"/>
                          </a:lnTo>
                          <a:lnTo>
                            <a:pt x="2" y="0"/>
                          </a:lnTo>
                          <a:lnTo>
                            <a:pt x="62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2" name=""/>
                  <p:cNvSpPr/>
                  <p:nvPr/>
                </p:nvSpPr>
                <p:spPr>
                  <a:xfrm>
                    <a:off x="7618680" y="219600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664760" y="2185200"/>
                    <a:ext cx="349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18" y="55"/>
                        </a:moveTo>
                        <a:lnTo>
                          <a:pt x="45" y="36"/>
                        </a:lnTo>
                        <a:lnTo>
                          <a:pt x="14" y="0"/>
                        </a:lnTo>
                        <a:lnTo>
                          <a:pt x="0" y="20"/>
                        </a:lnTo>
                        <a:lnTo>
                          <a:pt x="18" y="5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" name=""/>
                <p:cNvSpPr/>
                <p:nvPr/>
              </p:nvSpPr>
              <p:spPr>
                <a:xfrm>
                  <a:off x="7472160" y="2291040"/>
                  <a:ext cx="80280" cy="114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543440" y="2291040"/>
                  <a:ext cx="65880" cy="946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584840" y="2257200"/>
                  <a:ext cx="65160" cy="92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524360" y="224028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84" h="147">
                      <a:moveTo>
                        <a:pt x="170" y="42"/>
                      </a:moveTo>
                      <a:lnTo>
                        <a:pt x="152" y="52"/>
                      </a:lnTo>
                      <a:lnTo>
                        <a:pt x="103" y="110"/>
                      </a:lnTo>
                      <a:lnTo>
                        <a:pt x="91" y="134"/>
                      </a:lnTo>
                      <a:lnTo>
                        <a:pt x="38" y="134"/>
                      </a:lnTo>
                      <a:lnTo>
                        <a:pt x="27" y="146"/>
                      </a:lnTo>
                      <a:lnTo>
                        <a:pt x="0" y="103"/>
                      </a:lnTo>
                      <a:lnTo>
                        <a:pt x="123" y="0"/>
                      </a:lnTo>
                      <a:lnTo>
                        <a:pt x="183" y="23"/>
                      </a:lnTo>
                      <a:lnTo>
                        <a:pt x="170" y="4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934320" y="1820160"/>
                <a:ext cx="223920" cy="406440"/>
                <a:chOff x="6934320" y="1820160"/>
                <a:chExt cx="223920" cy="40644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6934320" y="1878480"/>
                  <a:ext cx="117720" cy="242640"/>
                  <a:chOff x="6934320" y="1878480"/>
                  <a:chExt cx="117720" cy="242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934320" y="1963080"/>
                    <a:ext cx="49680" cy="72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942600" y="2026440"/>
                    <a:ext cx="66600" cy="9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520" bIns="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957720" y="1878480"/>
                    <a:ext cx="94320" cy="13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950160" y="1971360"/>
                    <a:ext cx="345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4">
                        <a:moveTo>
                          <a:pt x="25" y="0"/>
                        </a:moveTo>
                        <a:lnTo>
                          <a:pt x="0" y="16"/>
                        </a:lnTo>
                        <a:lnTo>
                          <a:pt x="0" y="66"/>
                        </a:lnTo>
                        <a:lnTo>
                          <a:pt x="9" y="83"/>
                        </a:lnTo>
                        <a:lnTo>
                          <a:pt x="44" y="66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973200" y="1820160"/>
                  <a:ext cx="185040" cy="406440"/>
                  <a:chOff x="6973200" y="1820160"/>
                  <a:chExt cx="185040" cy="4064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7032960" y="1837080"/>
                    <a:ext cx="125280" cy="178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973200" y="1963440"/>
                    <a:ext cx="65160" cy="93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987600" y="2026800"/>
                    <a:ext cx="9684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017480" y="2089800"/>
                    <a:ext cx="95760" cy="13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025400" y="1923840"/>
                    <a:ext cx="8424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01360" y="1820160"/>
                    <a:ext cx="49680" cy="70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053120" y="1899360"/>
                    <a:ext cx="604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67">
                        <a:moveTo>
                          <a:pt x="0" y="18"/>
                        </a:moveTo>
                        <a:lnTo>
                          <a:pt x="9" y="48"/>
                        </a:lnTo>
                        <a:lnTo>
                          <a:pt x="78" y="66"/>
                        </a:lnTo>
                        <a:lnTo>
                          <a:pt x="78" y="2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992280" y="2007720"/>
                    <a:ext cx="698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38">
                        <a:moveTo>
                          <a:pt x="55" y="0"/>
                        </a:moveTo>
                        <a:lnTo>
                          <a:pt x="0" y="34"/>
                        </a:lnTo>
                        <a:lnTo>
                          <a:pt x="23" y="61"/>
                        </a:lnTo>
                        <a:lnTo>
                          <a:pt x="26" y="128"/>
                        </a:lnTo>
                        <a:lnTo>
                          <a:pt x="39" y="137"/>
                        </a:lnTo>
                        <a:lnTo>
                          <a:pt x="86" y="94"/>
                        </a:lnTo>
                        <a:lnTo>
                          <a:pt x="90" y="13"/>
                        </a:lnTo>
                        <a:lnTo>
                          <a:pt x="55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7095960" y="1863000"/>
                  <a:ext cx="36000" cy="57600"/>
                </a:xfrm>
                <a:custGeom>
                  <a:avLst/>
                  <a:gdLst/>
                  <a:ahLst/>
                  <a:rect l="l" t="t" r="r" b="b"/>
                  <a:pathLst>
                    <a:path w="47" h="64">
                      <a:moveTo>
                        <a:pt x="0" y="34"/>
                      </a:moveTo>
                      <a:lnTo>
                        <a:pt x="19" y="0"/>
                      </a:lnTo>
                      <a:lnTo>
                        <a:pt x="46" y="34"/>
                      </a:lnTo>
                      <a:lnTo>
                        <a:pt x="24" y="63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048440" y="1752480"/>
                <a:ext cx="664920" cy="685800"/>
                <a:chOff x="7048440" y="1752480"/>
                <a:chExt cx="664920" cy="6858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257600" y="1773000"/>
                  <a:ext cx="155880" cy="221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92600" y="1752480"/>
                  <a:ext cx="12456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513200" y="194184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122600" y="2069280"/>
                  <a:ext cx="230760" cy="3265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453440" y="2111400"/>
                  <a:ext cx="169200" cy="240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062840" y="2133360"/>
                  <a:ext cx="124920" cy="177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048440" y="1984320"/>
                  <a:ext cx="124200" cy="178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107120" y="18162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288200" y="2153160"/>
                  <a:ext cx="200160" cy="285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543080" y="1837080"/>
                  <a:ext cx="155520" cy="2199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97000" y="1752480"/>
                  <a:ext cx="141120" cy="199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100280" y="1805400"/>
                  <a:ext cx="578160" cy="545040"/>
                </a:xfrm>
                <a:custGeom>
                  <a:avLst/>
                  <a:gdLst/>
                  <a:ahLst/>
                  <a:rect l="l" t="t" r="r" b="b"/>
                  <a:pathLst>
                    <a:path w="754" h="604">
                      <a:moveTo>
                        <a:pt x="232" y="60"/>
                      </a:moveTo>
                      <a:lnTo>
                        <a:pt x="263" y="17"/>
                      </a:lnTo>
                      <a:lnTo>
                        <a:pt x="404" y="20"/>
                      </a:lnTo>
                      <a:lnTo>
                        <a:pt x="504" y="0"/>
                      </a:lnTo>
                      <a:lnTo>
                        <a:pt x="628" y="71"/>
                      </a:lnTo>
                      <a:lnTo>
                        <a:pt x="692" y="51"/>
                      </a:lnTo>
                      <a:lnTo>
                        <a:pt x="725" y="60"/>
                      </a:lnTo>
                      <a:lnTo>
                        <a:pt x="733" y="240"/>
                      </a:lnTo>
                      <a:lnTo>
                        <a:pt x="753" y="267"/>
                      </a:lnTo>
                      <a:lnTo>
                        <a:pt x="695" y="406"/>
                      </a:lnTo>
                      <a:lnTo>
                        <a:pt x="631" y="312"/>
                      </a:lnTo>
                      <a:lnTo>
                        <a:pt x="613" y="360"/>
                      </a:lnTo>
                      <a:lnTo>
                        <a:pt x="525" y="551"/>
                      </a:lnTo>
                      <a:lnTo>
                        <a:pt x="227" y="603"/>
                      </a:lnTo>
                      <a:lnTo>
                        <a:pt x="72" y="565"/>
                      </a:lnTo>
                      <a:lnTo>
                        <a:pt x="23" y="447"/>
                      </a:lnTo>
                      <a:lnTo>
                        <a:pt x="23" y="327"/>
                      </a:lnTo>
                      <a:lnTo>
                        <a:pt x="0" y="224"/>
                      </a:lnTo>
                      <a:lnTo>
                        <a:pt x="232" y="6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7159680" y="2078280"/>
              <a:ext cx="18396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12800" y="190512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9800" y="274320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920" y="4343400"/>
            <a:ext cx="11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és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3200400"/>
            <a:ext cx="1447920" cy="838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2895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30800" y="3200400"/>
            <a:ext cx="11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és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ommandations Internet Mobile novembr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49:06Z</dcterms:created>
  <dc:creator>ART</dc:creator>
  <dc:description/>
  <dc:language>en-US</dc:language>
  <cp:lastModifiedBy>ART</cp:lastModifiedBy>
  <cp:lastPrinted>2000-11-09T13:38:05Z</cp:lastPrinted>
  <dcterms:modified xsi:type="dcterms:W3CDTF">2000-11-13T10:31:51Z</dcterms:modified>
  <cp:revision>17</cp:revision>
  <dc:subject/>
  <dc:title>Aucun titre de diapositive</dc:title>
</cp:coreProperties>
</file>