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3F3-4DE6-4846-B332-DB80B02E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549-6BD0-48A0-B132-895C99D9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DE3-2715-451F-B491-085F1A1E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697-2CD5-4F33-90E9-F4274B40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955B-4AF3-40D0-AD42-B76B3E81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9CA-341E-40A7-AE28-BE67C83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099-0F32-4D87-B116-4FD86588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4BE-4627-48F5-A4CF-308D08AC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AB3-D425-4C7D-8E92-38990717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1F4-20EF-491A-8098-F8754911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277-79EF-4C70-BAB8-6E502A07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F8E-05E9-4EED-A53A-023A7274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0D8-7B6B-470E-8FE8-6071D7461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286000"/>
            <a:ext cx="23623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371240" y="31240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76320"/>
            <a:ext cx="4267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nnex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rchitectures WAP sur GPRS (exemp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133720"/>
            <a:ext cx="2209680" cy="152280"/>
          </a:xfrm>
          <a:prstGeom prst="leftRightArrow">
            <a:avLst>
              <a:gd name="adj1" fmla="val 50000"/>
              <a:gd name="adj2" fmla="val 28886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4120" y="175248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P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7440" y="281952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P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477120" y="518148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5181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59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3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64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65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66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69640" y="76212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opér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 opérateur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23160" y="762120"/>
            <a:ext cx="82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ér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98200" y="114300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en partenari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41040" y="228600"/>
            <a:ext cx="146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ouquet d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ér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34290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1800" y="2209680"/>
            <a:ext cx="2044800" cy="175284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86600" y="365760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3657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5440" y="388620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1148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51400" y="571500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54864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5410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43000" y="525780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52578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07800" y="54100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1722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6892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172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295280" y="48769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4960" y="571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4197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4038480"/>
          <a:ext cx="53316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4038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57800" y="4724280"/>
          <a:ext cx="5335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57800" y="47242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623000" y="28954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54920" y="213372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886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6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7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7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09880" y="16765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30800" y="320040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09680" y="4038480"/>
            <a:ext cx="1141560" cy="990720"/>
            <a:chOff x="2209680" y="4038480"/>
            <a:chExt cx="1141560" cy="990720"/>
          </a:xfrm>
        </p:grpSpPr>
        <p:grpSp>
          <p:nvGrpSpPr>
            <p:cNvPr id="237" name=""/>
            <p:cNvGrpSpPr/>
            <p:nvPr/>
          </p:nvGrpSpPr>
          <p:grpSpPr>
            <a:xfrm>
              <a:off x="2209680" y="4038480"/>
              <a:ext cx="1141560" cy="990720"/>
              <a:chOff x="2209680" y="4038480"/>
              <a:chExt cx="1141560" cy="9907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2881800" y="4131000"/>
                <a:ext cx="469440" cy="851040"/>
                <a:chOff x="2881800" y="4131000"/>
                <a:chExt cx="469440" cy="85104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064680" y="4131000"/>
                  <a:ext cx="286560" cy="684360"/>
                  <a:chOff x="3064680" y="4131000"/>
                  <a:chExt cx="286560" cy="68436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3139200" y="4220640"/>
                    <a:ext cx="212040" cy="500400"/>
                    <a:chOff x="3139200" y="4220640"/>
                    <a:chExt cx="212040" cy="50040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3139200" y="4220640"/>
                      <a:ext cx="212040" cy="500400"/>
                      <a:chOff x="3139200" y="4220640"/>
                      <a:chExt cx="212040" cy="50040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3194640" y="4251960"/>
                        <a:ext cx="156600" cy="408960"/>
                        <a:chOff x="3194640" y="4251960"/>
                        <a:chExt cx="156600" cy="40896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3213720" y="4251960"/>
                          <a:ext cx="137520" cy="408960"/>
                          <a:chOff x="3213720" y="4251960"/>
                          <a:chExt cx="137520" cy="408960"/>
                        </a:xfrm>
                      </p:grpSpPr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3288240" y="4495680"/>
                            <a:ext cx="63000" cy="1040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000" bIns="27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3231720" y="4525560"/>
                            <a:ext cx="8028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3269160" y="4343040"/>
                            <a:ext cx="64080" cy="105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7720" bIns="27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3213720" y="4251960"/>
                            <a:ext cx="81360" cy="13536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8" name=""/>
                          <p:cNvSpPr/>
                          <p:nvPr/>
                        </p:nvSpPr>
                        <p:spPr>
                          <a:xfrm>
                            <a:off x="3269880" y="4343040"/>
                            <a:ext cx="56160" cy="23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3194640" y="4372920"/>
                          <a:ext cx="118800" cy="1980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3194640" y="4495680"/>
                          <a:ext cx="81360" cy="136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3220200" y="4314600"/>
                          <a:ext cx="61200" cy="25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3194640" y="4617000"/>
                        <a:ext cx="61920" cy="1040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3139200" y="4220640"/>
                        <a:ext cx="82080" cy="1368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3214440" y="4591080"/>
                        <a:ext cx="4320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206880" y="4288320"/>
                      <a:ext cx="237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3064680" y="4131000"/>
                    <a:ext cx="192240" cy="622800"/>
                    <a:chOff x="3064680" y="4131000"/>
                    <a:chExt cx="192240" cy="62280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081600" y="4496040"/>
                      <a:ext cx="156960" cy="257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3101040" y="4312080"/>
                      <a:ext cx="155880" cy="259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064680" y="4131000"/>
                      <a:ext cx="118440" cy="196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139200" y="4251960"/>
                      <a:ext cx="62280" cy="104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3101040" y="4228560"/>
                      <a:ext cx="105840" cy="22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3153600" y="4545360"/>
                      <a:ext cx="6768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3" name=""/>
                  <p:cNvSpPr/>
                  <p:nvPr/>
                </p:nvSpPr>
                <p:spPr>
                  <a:xfrm>
                    <a:off x="3064680" y="468000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21920" y="4664160"/>
                    <a:ext cx="4356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2881800" y="4816800"/>
                  <a:ext cx="100440" cy="165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970720" y="4816800"/>
                  <a:ext cx="82080" cy="136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022560" y="4768200"/>
                  <a:ext cx="81360" cy="134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946960" y="4743720"/>
                  <a:ext cx="176040" cy="19152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209680" y="4136040"/>
                <a:ext cx="279360" cy="587520"/>
                <a:chOff x="2209680" y="4136040"/>
                <a:chExt cx="279360" cy="58752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2209680" y="4220280"/>
                  <a:ext cx="147600" cy="350280"/>
                  <a:chOff x="2209680" y="4220280"/>
                  <a:chExt cx="147600" cy="3502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2209680" y="4342680"/>
                    <a:ext cx="61920" cy="10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220120" y="4434120"/>
                    <a:ext cx="83520" cy="13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239200" y="4220280"/>
                    <a:ext cx="11808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229480" y="4354560"/>
                    <a:ext cx="4320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2258280" y="4136040"/>
                  <a:ext cx="230760" cy="587520"/>
                  <a:chOff x="2258280" y="4136040"/>
                  <a:chExt cx="230760" cy="5875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332800" y="4160520"/>
                    <a:ext cx="156240" cy="258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258280" y="4343040"/>
                    <a:ext cx="81360" cy="135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276280" y="4434480"/>
                    <a:ext cx="12096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313720" y="4525560"/>
                    <a:ext cx="119520" cy="19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323440" y="4285800"/>
                    <a:ext cx="105480" cy="169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418480" y="4136040"/>
                    <a:ext cx="6228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58000" y="4250520"/>
                    <a:ext cx="756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282400" y="4406760"/>
                    <a:ext cx="8712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4" name=""/>
                <p:cNvSpPr/>
                <p:nvPr/>
              </p:nvSpPr>
              <p:spPr>
                <a:xfrm>
                  <a:off x="2411640" y="4198320"/>
                  <a:ext cx="45000" cy="8352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352240" y="4038480"/>
                <a:ext cx="831240" cy="990720"/>
                <a:chOff x="2352240" y="4038480"/>
                <a:chExt cx="831240" cy="990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613600" y="4068000"/>
                  <a:ext cx="194760" cy="319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82800" y="4038480"/>
                  <a:ext cx="15588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933280" y="431208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444760" y="4496040"/>
                  <a:ext cx="288720" cy="47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58400" y="4557240"/>
                  <a:ext cx="211680" cy="34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370240" y="4588560"/>
                  <a:ext cx="156240" cy="256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352240" y="4373280"/>
                  <a:ext cx="155160" cy="25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25680" y="4131000"/>
                  <a:ext cx="252000" cy="410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652120" y="4617360"/>
                  <a:ext cx="250200" cy="411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970720" y="4160880"/>
                  <a:ext cx="194400" cy="317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912760" y="4038480"/>
                  <a:ext cx="176400" cy="288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417040" y="4115160"/>
                  <a:ext cx="722880" cy="78732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8" name=""/>
            <p:cNvSpPr/>
            <p:nvPr/>
          </p:nvSpPr>
          <p:spPr>
            <a:xfrm>
              <a:off x="2428200" y="4509000"/>
              <a:ext cx="1850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440800" y="43434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971800" y="5257800"/>
          <a:ext cx="533520" cy="914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52578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3809880" y="5486400"/>
          <a:ext cx="2286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8098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752480" y="5105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95480" y="495288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8200" y="502920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86728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5200" y="533412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 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384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ommandations Internet Mobile novembre 2000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ART</cp:lastModifiedBy>
  <cp:lastPrinted>2000-11-09T13:38:14Z</cp:lastPrinted>
  <dcterms:modified xsi:type="dcterms:W3CDTF">2000-11-13T10:31:42Z</dcterms:modified>
  <cp:revision>21</cp:revision>
  <dc:subject/>
  <dc:title>Aucun titre de diapositive</dc:title>
</cp:coreProperties>
</file>